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22C54-E229-430A-BDFF-6F74F4FB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E97AE-C959-4684-9FD5-A30BC534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EFB49-08CB-4513-BAB8-9F06CD91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B24AB-E2A3-40A7-9AF3-466CA375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15628-D31D-49C1-8CA4-EE349EF4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688C8-721B-41F9-B4ED-8B28176B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30CBB-E97A-4CD5-B27E-F134387B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C8534-1C13-49B8-89C1-E864DCB7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6D47E-5B41-42C9-AD72-848FA79D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50F8B-7F9F-4B8C-8B01-C8E1E7F3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E0078-D078-49BF-B83E-5B27E42C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F9493-9884-4913-AE14-45340FC0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62940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4767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ent Managemen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2000 Self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0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0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885840"/>
            <a:ext cx="7391160" cy="2971800"/>
          </a:xfrm>
          <a:prstGeom prst="rect">
            <a:avLst/>
          </a:prstGeom>
          <a:solidFill>
            <a:srgbClr val="c8fcf5"/>
          </a:solidFill>
          <a:ln w="9360">
            <a:solidFill>
              <a:srgbClr val="6af8e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73547"/>
                </a:solidFill>
                <a:latin typeface="Times New Roman"/>
              </a:rPr>
              <a:t>Talent Management for the New Economy</a:t>
            </a:r>
            <a:br>
              <a:rPr sz="4400"/>
            </a:br>
            <a:r>
              <a:rPr b="1" i="1" lang="en-US" sz="4000" spc="-1" strike="noStrike">
                <a:solidFill>
                  <a:srgbClr val="f73547"/>
                </a:solidFill>
                <a:latin typeface="Times New Roman"/>
              </a:rPr>
              <a:t>Prasad Kaipa, CEO</a:t>
            </a:r>
            <a:br>
              <a:rPr sz="4000"/>
            </a:br>
            <a:r>
              <a:rPr b="1" i="1" lang="en-US" sz="4000" spc="-1" strike="noStrike">
                <a:solidFill>
                  <a:srgbClr val="f73547"/>
                </a:solidFill>
                <a:latin typeface="Times New Roman"/>
              </a:rPr>
              <a:t>SelfCorp.com</a:t>
            </a:r>
            <a:br>
              <a:rPr sz="32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leashing Passion and Harnessing Human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4767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ent Managemen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2000 Self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lfCor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093680"/>
            <a:ext cx="830592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in the business of executive development assisted by the we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sister company to Mithya Institute that has a significant amount of experience, research base and intellectual property in the areas of personal and organizational learning and knowledge cre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find more info on www.selfcorp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56840" y="1334880"/>
            <a:ext cx="2846160" cy="2965680"/>
            <a:chOff x="456840" y="1334880"/>
            <a:chExt cx="2846160" cy="2965680"/>
          </a:xfrm>
        </p:grpSpPr>
        <p:sp>
          <p:nvSpPr>
            <p:cNvPr id="83" name=""/>
            <p:cNvSpPr/>
            <p:nvPr/>
          </p:nvSpPr>
          <p:spPr>
            <a:xfrm rot="1414800">
              <a:off x="1256760" y="2211120"/>
              <a:ext cx="1946160" cy="904320"/>
            </a:xfrm>
            <a:custGeom>
              <a:avLst/>
              <a:gdLst>
                <a:gd name="textAreaLeft" fmla="*/ 340560 w 1946160"/>
                <a:gd name="textAreaRight" fmla="*/ 1411200 w 1946160"/>
                <a:gd name="textAreaTop" fmla="*/ 120960 h 904320"/>
                <a:gd name="textAreaBottom" fmla="*/ 783360 h 90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56480" y="2408760"/>
              <a:ext cx="1945800" cy="459720"/>
            </a:xfrm>
            <a:custGeom>
              <a:avLst/>
              <a:gdLst>
                <a:gd name="textAreaLeft" fmla="*/ 333360 w 1945800"/>
                <a:gd name="textAreaRight" fmla="*/ 1443600 w 1945800"/>
                <a:gd name="textAreaTop" fmla="*/ 61560 h 459720"/>
                <a:gd name="textAreaBottom" fmla="*/ 398160 h 45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412" hR="21600" stAng="10800000" swAng="5400000"/>
                  <a:lnTo>
                    <a:pt x="12324" y="0"/>
                  </a:lnTo>
                  <a:arcTo wR="7412" hR="21600" stAng="-5400000" swAng="2648661"/>
                  <a:lnTo>
                    <a:pt x="21176" y="14400"/>
                  </a:lnTo>
                  <a:lnTo>
                    <a:pt x="17280" y="21600"/>
                  </a:lnTo>
                  <a:lnTo>
                    <a:pt x="12536" y="14400"/>
                  </a:lnTo>
                  <a:lnTo>
                    <a:pt x="14400" y="14400"/>
                  </a:lnTo>
                  <a:arcTo wR="7412" hR="21600" stAng="-2751339" swAng="-2236360"/>
                  <a:lnTo>
                    <a:pt x="9868" y="1220"/>
                  </a:lnTo>
                  <a:arcTo wR="7412" hR="21600" stAng="-5812301" swAng="-4987699"/>
                  <a:close/>
                </a:path>
                <a:path fill="darkenLess" w="21600" h="21600">
                  <a:moveTo>
                    <a:pt x="0" y="21600"/>
                  </a:moveTo>
                  <a:arcTo wR="7412" hR="21600" stAng="10800000" swAng="5400000"/>
                  <a:lnTo>
                    <a:pt x="7412" y="0"/>
                  </a:lnTo>
                  <a:arcTo wR="7412" hR="21600" stAng="-5400000" swAng="412301"/>
                  <a:lnTo>
                    <a:pt x="9868" y="1220"/>
                  </a:lnTo>
                  <a:arcTo wR="7412" hR="21600" stAng="-5812301" swAng="-4987699"/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 rot="2594400">
              <a:off x="1256040" y="2851920"/>
              <a:ext cx="1946160" cy="904320"/>
            </a:xfrm>
            <a:custGeom>
              <a:avLst/>
              <a:gdLst>
                <a:gd name="textAreaLeft" fmla="*/ 340560 w 1946160"/>
                <a:gd name="textAreaRight" fmla="*/ 1411200 w 1946160"/>
                <a:gd name="textAreaTop" fmla="*/ 120960 h 904320"/>
                <a:gd name="textAreaBottom" fmla="*/ 783360 h 90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 rot="17596200">
              <a:off x="1597680" y="1945800"/>
              <a:ext cx="1681200" cy="532080"/>
            </a:xfrm>
            <a:custGeom>
              <a:avLst/>
              <a:gdLst>
                <a:gd name="textAreaLeft" fmla="*/ 288360 w 1681200"/>
                <a:gd name="textAreaRight" fmla="*/ 1247760 w 1681200"/>
                <a:gd name="textAreaTop" fmla="*/ 71280 h 532080"/>
                <a:gd name="textAreaBottom" fmla="*/ 46080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412" hR="21600" stAng="10800000" swAng="5400000"/>
                  <a:lnTo>
                    <a:pt x="12324" y="0"/>
                  </a:lnTo>
                  <a:arcTo wR="7412" hR="21600" stAng="-5400000" swAng="2648661"/>
                  <a:lnTo>
                    <a:pt x="21176" y="14400"/>
                  </a:lnTo>
                  <a:lnTo>
                    <a:pt x="17280" y="21600"/>
                  </a:lnTo>
                  <a:lnTo>
                    <a:pt x="12536" y="14400"/>
                  </a:lnTo>
                  <a:lnTo>
                    <a:pt x="14400" y="14400"/>
                  </a:lnTo>
                  <a:arcTo wR="7412" hR="21600" stAng="-2751339" swAng="-2236360"/>
                  <a:lnTo>
                    <a:pt x="9868" y="1220"/>
                  </a:lnTo>
                  <a:arcTo wR="7412" hR="21600" stAng="-5812301" swAng="-4987699"/>
                  <a:close/>
                </a:path>
                <a:path fill="darkenLess" w="21600" h="21600">
                  <a:moveTo>
                    <a:pt x="0" y="21600"/>
                  </a:moveTo>
                  <a:arcTo wR="7412" hR="21600" stAng="10800000" swAng="5400000"/>
                  <a:lnTo>
                    <a:pt x="7412" y="0"/>
                  </a:lnTo>
                  <a:arcTo wR="7412" hR="21600" stAng="-5400000" swAng="412301"/>
                  <a:lnTo>
                    <a:pt x="9868" y="1220"/>
                  </a:lnTo>
                  <a:arcTo wR="7412" hR="21600" stAng="-5812301" swAng="-4987699"/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200400" y="228600"/>
            <a:ext cx="327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llectu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819520" y="1752480"/>
            <a:ext cx="4020480" cy="4578120"/>
            <a:chOff x="2819520" y="1752480"/>
            <a:chExt cx="4020480" cy="4578120"/>
          </a:xfrm>
        </p:grpSpPr>
        <p:sp>
          <p:nvSpPr>
            <p:cNvPr id="89" name=""/>
            <p:cNvSpPr/>
            <p:nvPr/>
          </p:nvSpPr>
          <p:spPr>
            <a:xfrm>
              <a:off x="3383640" y="1812600"/>
              <a:ext cx="3065040" cy="4517640"/>
            </a:xfrm>
            <a:custGeom>
              <a:avLst/>
              <a:gdLst/>
              <a:ahLst/>
              <a:rect l="l" t="t" r="r" b="b"/>
              <a:pathLst>
                <a:path w="3834" h="3904">
                  <a:moveTo>
                    <a:pt x="3711" y="3904"/>
                  </a:moveTo>
                  <a:lnTo>
                    <a:pt x="3505" y="3904"/>
                  </a:lnTo>
                  <a:lnTo>
                    <a:pt x="3289" y="3904"/>
                  </a:lnTo>
                  <a:lnTo>
                    <a:pt x="3053" y="3904"/>
                  </a:lnTo>
                  <a:lnTo>
                    <a:pt x="2810" y="3904"/>
                  </a:lnTo>
                  <a:lnTo>
                    <a:pt x="2555" y="3904"/>
                  </a:lnTo>
                  <a:lnTo>
                    <a:pt x="2295" y="3904"/>
                  </a:lnTo>
                  <a:lnTo>
                    <a:pt x="2030" y="3904"/>
                  </a:lnTo>
                  <a:lnTo>
                    <a:pt x="1770" y="3904"/>
                  </a:lnTo>
                  <a:lnTo>
                    <a:pt x="1508" y="3904"/>
                  </a:lnTo>
                  <a:lnTo>
                    <a:pt x="1253" y="3904"/>
                  </a:lnTo>
                  <a:lnTo>
                    <a:pt x="1006" y="3904"/>
                  </a:lnTo>
                  <a:lnTo>
                    <a:pt x="772" y="3904"/>
                  </a:lnTo>
                  <a:lnTo>
                    <a:pt x="550" y="3904"/>
                  </a:lnTo>
                  <a:lnTo>
                    <a:pt x="346" y="3904"/>
                  </a:lnTo>
                  <a:lnTo>
                    <a:pt x="160" y="3904"/>
                  </a:lnTo>
                  <a:lnTo>
                    <a:pt x="0" y="3904"/>
                  </a:lnTo>
                  <a:lnTo>
                    <a:pt x="17" y="3889"/>
                  </a:lnTo>
                  <a:lnTo>
                    <a:pt x="42" y="3822"/>
                  </a:lnTo>
                  <a:lnTo>
                    <a:pt x="69" y="3744"/>
                  </a:lnTo>
                  <a:lnTo>
                    <a:pt x="99" y="3659"/>
                  </a:lnTo>
                  <a:lnTo>
                    <a:pt x="133" y="3567"/>
                  </a:lnTo>
                  <a:lnTo>
                    <a:pt x="167" y="3469"/>
                  </a:lnTo>
                  <a:lnTo>
                    <a:pt x="204" y="3370"/>
                  </a:lnTo>
                  <a:lnTo>
                    <a:pt x="240" y="3271"/>
                  </a:lnTo>
                  <a:lnTo>
                    <a:pt x="274" y="3174"/>
                  </a:lnTo>
                  <a:lnTo>
                    <a:pt x="306" y="3083"/>
                  </a:lnTo>
                  <a:lnTo>
                    <a:pt x="337" y="2999"/>
                  </a:lnTo>
                  <a:lnTo>
                    <a:pt x="365" y="2927"/>
                  </a:lnTo>
                  <a:lnTo>
                    <a:pt x="386" y="2864"/>
                  </a:lnTo>
                  <a:lnTo>
                    <a:pt x="403" y="2820"/>
                  </a:lnTo>
                  <a:lnTo>
                    <a:pt x="413" y="2790"/>
                  </a:lnTo>
                  <a:lnTo>
                    <a:pt x="418" y="2780"/>
                  </a:lnTo>
                  <a:lnTo>
                    <a:pt x="462" y="1069"/>
                  </a:lnTo>
                  <a:lnTo>
                    <a:pt x="1521" y="0"/>
                  </a:lnTo>
                  <a:lnTo>
                    <a:pt x="3834" y="879"/>
                  </a:lnTo>
                  <a:lnTo>
                    <a:pt x="3317" y="1820"/>
                  </a:lnTo>
                  <a:lnTo>
                    <a:pt x="3485" y="2170"/>
                  </a:lnTo>
                  <a:lnTo>
                    <a:pt x="3485" y="2183"/>
                  </a:lnTo>
                  <a:lnTo>
                    <a:pt x="3492" y="2229"/>
                  </a:lnTo>
                  <a:lnTo>
                    <a:pt x="3502" y="2299"/>
                  </a:lnTo>
                  <a:lnTo>
                    <a:pt x="3513" y="2392"/>
                  </a:lnTo>
                  <a:lnTo>
                    <a:pt x="3524" y="2501"/>
                  </a:lnTo>
                  <a:lnTo>
                    <a:pt x="3543" y="2628"/>
                  </a:lnTo>
                  <a:lnTo>
                    <a:pt x="3559" y="2763"/>
                  </a:lnTo>
                  <a:lnTo>
                    <a:pt x="3580" y="2910"/>
                  </a:lnTo>
                  <a:lnTo>
                    <a:pt x="3597" y="3058"/>
                  </a:lnTo>
                  <a:lnTo>
                    <a:pt x="3616" y="3210"/>
                  </a:lnTo>
                  <a:lnTo>
                    <a:pt x="3635" y="3356"/>
                  </a:lnTo>
                  <a:lnTo>
                    <a:pt x="3654" y="3501"/>
                  </a:lnTo>
                  <a:lnTo>
                    <a:pt x="3671" y="3632"/>
                  </a:lnTo>
                  <a:lnTo>
                    <a:pt x="3686" y="3754"/>
                  </a:lnTo>
                  <a:lnTo>
                    <a:pt x="3697" y="3856"/>
                  </a:lnTo>
                  <a:lnTo>
                    <a:pt x="3711" y="3904"/>
                  </a:lnTo>
                  <a:lnTo>
                    <a:pt x="3711" y="3904"/>
                  </a:lnTo>
                  <a:close/>
                </a:path>
              </a:pathLst>
            </a:custGeom>
            <a:solidFill>
              <a:srgbClr val="e8e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83800" y="2178000"/>
              <a:ext cx="2631240" cy="4152600"/>
            </a:xfrm>
            <a:custGeom>
              <a:avLst/>
              <a:gdLst/>
              <a:ahLst/>
              <a:rect l="l" t="t" r="r" b="b"/>
              <a:pathLst>
                <a:path w="3292" h="3588">
                  <a:moveTo>
                    <a:pt x="3292" y="3588"/>
                  </a:moveTo>
                  <a:lnTo>
                    <a:pt x="3106" y="3588"/>
                  </a:lnTo>
                  <a:lnTo>
                    <a:pt x="2910" y="3588"/>
                  </a:lnTo>
                  <a:lnTo>
                    <a:pt x="2705" y="3588"/>
                  </a:lnTo>
                  <a:lnTo>
                    <a:pt x="2494" y="3588"/>
                  </a:lnTo>
                  <a:lnTo>
                    <a:pt x="2274" y="3588"/>
                  </a:lnTo>
                  <a:lnTo>
                    <a:pt x="2053" y="3588"/>
                  </a:lnTo>
                  <a:lnTo>
                    <a:pt x="1827" y="3588"/>
                  </a:lnTo>
                  <a:lnTo>
                    <a:pt x="1604" y="3588"/>
                  </a:lnTo>
                  <a:lnTo>
                    <a:pt x="1380" y="3588"/>
                  </a:lnTo>
                  <a:lnTo>
                    <a:pt x="1158" y="3588"/>
                  </a:lnTo>
                  <a:lnTo>
                    <a:pt x="941" y="3588"/>
                  </a:lnTo>
                  <a:lnTo>
                    <a:pt x="734" y="3588"/>
                  </a:lnTo>
                  <a:lnTo>
                    <a:pt x="532" y="3588"/>
                  </a:lnTo>
                  <a:lnTo>
                    <a:pt x="342" y="3588"/>
                  </a:lnTo>
                  <a:lnTo>
                    <a:pt x="164" y="3588"/>
                  </a:lnTo>
                  <a:lnTo>
                    <a:pt x="0" y="3588"/>
                  </a:lnTo>
                  <a:lnTo>
                    <a:pt x="10" y="3554"/>
                  </a:lnTo>
                  <a:lnTo>
                    <a:pt x="31" y="3462"/>
                  </a:lnTo>
                  <a:lnTo>
                    <a:pt x="51" y="3348"/>
                  </a:lnTo>
                  <a:lnTo>
                    <a:pt x="78" y="3217"/>
                  </a:lnTo>
                  <a:lnTo>
                    <a:pt x="107" y="3073"/>
                  </a:lnTo>
                  <a:lnTo>
                    <a:pt x="137" y="2919"/>
                  </a:lnTo>
                  <a:lnTo>
                    <a:pt x="167" y="2759"/>
                  </a:lnTo>
                  <a:lnTo>
                    <a:pt x="202" y="2601"/>
                  </a:lnTo>
                  <a:lnTo>
                    <a:pt x="230" y="2441"/>
                  </a:lnTo>
                  <a:lnTo>
                    <a:pt x="261" y="2293"/>
                  </a:lnTo>
                  <a:lnTo>
                    <a:pt x="285" y="2156"/>
                  </a:lnTo>
                  <a:lnTo>
                    <a:pt x="312" y="2034"/>
                  </a:lnTo>
                  <a:lnTo>
                    <a:pt x="331" y="1932"/>
                  </a:lnTo>
                  <a:lnTo>
                    <a:pt x="346" y="1856"/>
                  </a:lnTo>
                  <a:lnTo>
                    <a:pt x="356" y="1804"/>
                  </a:lnTo>
                  <a:lnTo>
                    <a:pt x="361" y="1789"/>
                  </a:lnTo>
                  <a:lnTo>
                    <a:pt x="234" y="1185"/>
                  </a:lnTo>
                  <a:lnTo>
                    <a:pt x="886" y="154"/>
                  </a:lnTo>
                  <a:lnTo>
                    <a:pt x="1977" y="0"/>
                  </a:lnTo>
                  <a:lnTo>
                    <a:pt x="3047" y="789"/>
                  </a:lnTo>
                  <a:lnTo>
                    <a:pt x="2927" y="2291"/>
                  </a:lnTo>
                  <a:lnTo>
                    <a:pt x="2929" y="2301"/>
                  </a:lnTo>
                  <a:lnTo>
                    <a:pt x="2939" y="2333"/>
                  </a:lnTo>
                  <a:lnTo>
                    <a:pt x="2954" y="2386"/>
                  </a:lnTo>
                  <a:lnTo>
                    <a:pt x="2973" y="2459"/>
                  </a:lnTo>
                  <a:lnTo>
                    <a:pt x="2994" y="2542"/>
                  </a:lnTo>
                  <a:lnTo>
                    <a:pt x="3023" y="2637"/>
                  </a:lnTo>
                  <a:lnTo>
                    <a:pt x="3049" y="2740"/>
                  </a:lnTo>
                  <a:lnTo>
                    <a:pt x="3081" y="2852"/>
                  </a:lnTo>
                  <a:lnTo>
                    <a:pt x="3110" y="2964"/>
                  </a:lnTo>
                  <a:lnTo>
                    <a:pt x="3142" y="3078"/>
                  </a:lnTo>
                  <a:lnTo>
                    <a:pt x="3171" y="3189"/>
                  </a:lnTo>
                  <a:lnTo>
                    <a:pt x="3203" y="3297"/>
                  </a:lnTo>
                  <a:lnTo>
                    <a:pt x="3230" y="3396"/>
                  </a:lnTo>
                  <a:lnTo>
                    <a:pt x="3254" y="3487"/>
                  </a:lnTo>
                  <a:lnTo>
                    <a:pt x="3273" y="3563"/>
                  </a:lnTo>
                  <a:lnTo>
                    <a:pt x="3292" y="3588"/>
                  </a:lnTo>
                  <a:lnTo>
                    <a:pt x="3292" y="3588"/>
                  </a:lnTo>
                  <a:close/>
                </a:path>
              </a:pathLst>
            </a:custGeom>
            <a:solidFill>
              <a:srgbClr val="c5c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74520" y="2289240"/>
              <a:ext cx="2311560" cy="4041360"/>
            </a:xfrm>
            <a:custGeom>
              <a:avLst/>
              <a:gdLst/>
              <a:ahLst/>
              <a:rect l="l" t="t" r="r" b="b"/>
              <a:pathLst>
                <a:path w="2891" h="3491">
                  <a:moveTo>
                    <a:pt x="2891" y="3491"/>
                  </a:moveTo>
                  <a:lnTo>
                    <a:pt x="2717" y="3491"/>
                  </a:lnTo>
                  <a:lnTo>
                    <a:pt x="2540" y="3491"/>
                  </a:lnTo>
                  <a:lnTo>
                    <a:pt x="2355" y="3491"/>
                  </a:lnTo>
                  <a:lnTo>
                    <a:pt x="2169" y="3491"/>
                  </a:lnTo>
                  <a:lnTo>
                    <a:pt x="1975" y="3491"/>
                  </a:lnTo>
                  <a:lnTo>
                    <a:pt x="1783" y="3491"/>
                  </a:lnTo>
                  <a:lnTo>
                    <a:pt x="1589" y="3491"/>
                  </a:lnTo>
                  <a:lnTo>
                    <a:pt x="1397" y="3491"/>
                  </a:lnTo>
                  <a:lnTo>
                    <a:pt x="1203" y="3491"/>
                  </a:lnTo>
                  <a:lnTo>
                    <a:pt x="1015" y="3491"/>
                  </a:lnTo>
                  <a:lnTo>
                    <a:pt x="829" y="3491"/>
                  </a:lnTo>
                  <a:lnTo>
                    <a:pt x="650" y="3491"/>
                  </a:lnTo>
                  <a:lnTo>
                    <a:pt x="474" y="3491"/>
                  </a:lnTo>
                  <a:lnTo>
                    <a:pt x="306" y="3491"/>
                  </a:lnTo>
                  <a:lnTo>
                    <a:pt x="148" y="3491"/>
                  </a:lnTo>
                  <a:lnTo>
                    <a:pt x="0" y="3491"/>
                  </a:lnTo>
                  <a:lnTo>
                    <a:pt x="15" y="3478"/>
                  </a:lnTo>
                  <a:lnTo>
                    <a:pt x="38" y="3413"/>
                  </a:lnTo>
                  <a:lnTo>
                    <a:pt x="65" y="3333"/>
                  </a:lnTo>
                  <a:lnTo>
                    <a:pt x="97" y="3242"/>
                  </a:lnTo>
                  <a:lnTo>
                    <a:pt x="131" y="3139"/>
                  </a:lnTo>
                  <a:lnTo>
                    <a:pt x="169" y="3031"/>
                  </a:lnTo>
                  <a:lnTo>
                    <a:pt x="209" y="2921"/>
                  </a:lnTo>
                  <a:lnTo>
                    <a:pt x="249" y="2812"/>
                  </a:lnTo>
                  <a:lnTo>
                    <a:pt x="285" y="2702"/>
                  </a:lnTo>
                  <a:lnTo>
                    <a:pt x="321" y="2597"/>
                  </a:lnTo>
                  <a:lnTo>
                    <a:pt x="354" y="2500"/>
                  </a:lnTo>
                  <a:lnTo>
                    <a:pt x="384" y="2419"/>
                  </a:lnTo>
                  <a:lnTo>
                    <a:pt x="409" y="2346"/>
                  </a:lnTo>
                  <a:lnTo>
                    <a:pt x="428" y="2293"/>
                  </a:lnTo>
                  <a:lnTo>
                    <a:pt x="441" y="2257"/>
                  </a:lnTo>
                  <a:lnTo>
                    <a:pt x="445" y="2247"/>
                  </a:lnTo>
                  <a:lnTo>
                    <a:pt x="282" y="1416"/>
                  </a:lnTo>
                  <a:lnTo>
                    <a:pt x="578" y="443"/>
                  </a:lnTo>
                  <a:lnTo>
                    <a:pt x="1557" y="0"/>
                  </a:lnTo>
                  <a:lnTo>
                    <a:pt x="2825" y="1179"/>
                  </a:lnTo>
                  <a:lnTo>
                    <a:pt x="2620" y="1637"/>
                  </a:lnTo>
                  <a:lnTo>
                    <a:pt x="2621" y="1654"/>
                  </a:lnTo>
                  <a:lnTo>
                    <a:pt x="2629" y="1702"/>
                  </a:lnTo>
                  <a:lnTo>
                    <a:pt x="2639" y="1782"/>
                  </a:lnTo>
                  <a:lnTo>
                    <a:pt x="2656" y="1886"/>
                  </a:lnTo>
                  <a:lnTo>
                    <a:pt x="2673" y="2008"/>
                  </a:lnTo>
                  <a:lnTo>
                    <a:pt x="2694" y="2150"/>
                  </a:lnTo>
                  <a:lnTo>
                    <a:pt x="2715" y="2301"/>
                  </a:lnTo>
                  <a:lnTo>
                    <a:pt x="2739" y="2462"/>
                  </a:lnTo>
                  <a:lnTo>
                    <a:pt x="2760" y="2624"/>
                  </a:lnTo>
                  <a:lnTo>
                    <a:pt x="2783" y="2787"/>
                  </a:lnTo>
                  <a:lnTo>
                    <a:pt x="2806" y="2945"/>
                  </a:lnTo>
                  <a:lnTo>
                    <a:pt x="2829" y="3095"/>
                  </a:lnTo>
                  <a:lnTo>
                    <a:pt x="2848" y="3232"/>
                  </a:lnTo>
                  <a:lnTo>
                    <a:pt x="2865" y="3352"/>
                  </a:lnTo>
                  <a:lnTo>
                    <a:pt x="2880" y="3453"/>
                  </a:lnTo>
                  <a:lnTo>
                    <a:pt x="2891" y="3491"/>
                  </a:lnTo>
                  <a:lnTo>
                    <a:pt x="2891" y="3491"/>
                  </a:lnTo>
                  <a:close/>
                </a:path>
              </a:pathLst>
            </a:custGeom>
            <a:solidFill>
              <a:srgbClr val="9f9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91520" y="2397960"/>
              <a:ext cx="1983600" cy="3932640"/>
            </a:xfrm>
            <a:custGeom>
              <a:avLst/>
              <a:gdLst/>
              <a:ahLst/>
              <a:rect l="l" t="t" r="r" b="b"/>
              <a:pathLst>
                <a:path w="2480" h="3398">
                  <a:moveTo>
                    <a:pt x="2480" y="3398"/>
                  </a:moveTo>
                  <a:lnTo>
                    <a:pt x="2324" y="3398"/>
                  </a:lnTo>
                  <a:lnTo>
                    <a:pt x="2170" y="3398"/>
                  </a:lnTo>
                  <a:lnTo>
                    <a:pt x="2009" y="3398"/>
                  </a:lnTo>
                  <a:lnTo>
                    <a:pt x="1849" y="3398"/>
                  </a:lnTo>
                  <a:lnTo>
                    <a:pt x="1686" y="3398"/>
                  </a:lnTo>
                  <a:lnTo>
                    <a:pt x="1522" y="3398"/>
                  </a:lnTo>
                  <a:lnTo>
                    <a:pt x="1361" y="3398"/>
                  </a:lnTo>
                  <a:lnTo>
                    <a:pt x="1199" y="3398"/>
                  </a:lnTo>
                  <a:lnTo>
                    <a:pt x="1036" y="3398"/>
                  </a:lnTo>
                  <a:lnTo>
                    <a:pt x="876" y="3398"/>
                  </a:lnTo>
                  <a:lnTo>
                    <a:pt x="718" y="3398"/>
                  </a:lnTo>
                  <a:lnTo>
                    <a:pt x="566" y="3398"/>
                  </a:lnTo>
                  <a:lnTo>
                    <a:pt x="416" y="3398"/>
                  </a:lnTo>
                  <a:lnTo>
                    <a:pt x="271" y="3398"/>
                  </a:lnTo>
                  <a:lnTo>
                    <a:pt x="129" y="3398"/>
                  </a:lnTo>
                  <a:lnTo>
                    <a:pt x="0" y="3398"/>
                  </a:lnTo>
                  <a:lnTo>
                    <a:pt x="26" y="3377"/>
                  </a:lnTo>
                  <a:lnTo>
                    <a:pt x="66" y="3303"/>
                  </a:lnTo>
                  <a:lnTo>
                    <a:pt x="108" y="3217"/>
                  </a:lnTo>
                  <a:lnTo>
                    <a:pt x="159" y="3124"/>
                  </a:lnTo>
                  <a:lnTo>
                    <a:pt x="212" y="3018"/>
                  </a:lnTo>
                  <a:lnTo>
                    <a:pt x="271" y="2911"/>
                  </a:lnTo>
                  <a:lnTo>
                    <a:pt x="328" y="2799"/>
                  </a:lnTo>
                  <a:lnTo>
                    <a:pt x="387" y="2689"/>
                  </a:lnTo>
                  <a:lnTo>
                    <a:pt x="442" y="2580"/>
                  </a:lnTo>
                  <a:lnTo>
                    <a:pt x="496" y="2478"/>
                  </a:lnTo>
                  <a:lnTo>
                    <a:pt x="545" y="2383"/>
                  </a:lnTo>
                  <a:lnTo>
                    <a:pt x="591" y="2301"/>
                  </a:lnTo>
                  <a:lnTo>
                    <a:pt x="625" y="2230"/>
                  </a:lnTo>
                  <a:lnTo>
                    <a:pt x="655" y="2179"/>
                  </a:lnTo>
                  <a:lnTo>
                    <a:pt x="672" y="2145"/>
                  </a:lnTo>
                  <a:lnTo>
                    <a:pt x="678" y="2135"/>
                  </a:lnTo>
                  <a:lnTo>
                    <a:pt x="298" y="1869"/>
                  </a:lnTo>
                  <a:lnTo>
                    <a:pt x="397" y="700"/>
                  </a:lnTo>
                  <a:lnTo>
                    <a:pt x="998" y="339"/>
                  </a:lnTo>
                  <a:lnTo>
                    <a:pt x="1226" y="0"/>
                  </a:lnTo>
                  <a:lnTo>
                    <a:pt x="1980" y="483"/>
                  </a:lnTo>
                  <a:lnTo>
                    <a:pt x="2461" y="1061"/>
                  </a:lnTo>
                  <a:lnTo>
                    <a:pt x="2275" y="2154"/>
                  </a:lnTo>
                  <a:lnTo>
                    <a:pt x="2448" y="2360"/>
                  </a:lnTo>
                  <a:lnTo>
                    <a:pt x="2448" y="2369"/>
                  </a:lnTo>
                  <a:lnTo>
                    <a:pt x="2448" y="2400"/>
                  </a:lnTo>
                  <a:lnTo>
                    <a:pt x="2450" y="2443"/>
                  </a:lnTo>
                  <a:lnTo>
                    <a:pt x="2452" y="2506"/>
                  </a:lnTo>
                  <a:lnTo>
                    <a:pt x="2454" y="2577"/>
                  </a:lnTo>
                  <a:lnTo>
                    <a:pt x="2457" y="2658"/>
                  </a:lnTo>
                  <a:lnTo>
                    <a:pt x="2459" y="2746"/>
                  </a:lnTo>
                  <a:lnTo>
                    <a:pt x="2463" y="2839"/>
                  </a:lnTo>
                  <a:lnTo>
                    <a:pt x="2465" y="2932"/>
                  </a:lnTo>
                  <a:lnTo>
                    <a:pt x="2467" y="3023"/>
                  </a:lnTo>
                  <a:lnTo>
                    <a:pt x="2469" y="3115"/>
                  </a:lnTo>
                  <a:lnTo>
                    <a:pt x="2473" y="3200"/>
                  </a:lnTo>
                  <a:lnTo>
                    <a:pt x="2474" y="3276"/>
                  </a:lnTo>
                  <a:lnTo>
                    <a:pt x="2476" y="3343"/>
                  </a:lnTo>
                  <a:lnTo>
                    <a:pt x="2478" y="3396"/>
                  </a:lnTo>
                  <a:lnTo>
                    <a:pt x="2480" y="3398"/>
                  </a:lnTo>
                  <a:lnTo>
                    <a:pt x="2480" y="3398"/>
                  </a:lnTo>
                  <a:close/>
                </a:path>
              </a:pathLst>
            </a:custGeom>
            <a:solidFill>
              <a:srgbClr val="737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25440" y="2627280"/>
              <a:ext cx="1753920" cy="3703320"/>
            </a:xfrm>
            <a:custGeom>
              <a:avLst/>
              <a:gdLst/>
              <a:ahLst/>
              <a:rect l="l" t="t" r="r" b="b"/>
              <a:pathLst>
                <a:path w="2193" h="3200">
                  <a:moveTo>
                    <a:pt x="0" y="3200"/>
                  </a:moveTo>
                  <a:lnTo>
                    <a:pt x="2053" y="3200"/>
                  </a:lnTo>
                  <a:lnTo>
                    <a:pt x="2193" y="2523"/>
                  </a:lnTo>
                  <a:lnTo>
                    <a:pt x="1952" y="1719"/>
                  </a:lnTo>
                  <a:lnTo>
                    <a:pt x="2108" y="1696"/>
                  </a:lnTo>
                  <a:lnTo>
                    <a:pt x="2161" y="768"/>
                  </a:lnTo>
                  <a:lnTo>
                    <a:pt x="1452" y="255"/>
                  </a:lnTo>
                  <a:lnTo>
                    <a:pt x="1494" y="152"/>
                  </a:lnTo>
                  <a:lnTo>
                    <a:pt x="992" y="0"/>
                  </a:lnTo>
                  <a:lnTo>
                    <a:pt x="863" y="350"/>
                  </a:lnTo>
                  <a:lnTo>
                    <a:pt x="283" y="701"/>
                  </a:lnTo>
                  <a:lnTo>
                    <a:pt x="217" y="1346"/>
                  </a:lnTo>
                  <a:lnTo>
                    <a:pt x="329" y="1751"/>
                  </a:lnTo>
                  <a:lnTo>
                    <a:pt x="699" y="1643"/>
                  </a:lnTo>
                  <a:lnTo>
                    <a:pt x="329" y="2626"/>
                  </a:lnTo>
                  <a:lnTo>
                    <a:pt x="131" y="2757"/>
                  </a:lnTo>
                  <a:lnTo>
                    <a:pt x="0" y="3200"/>
                  </a:lnTo>
                  <a:lnTo>
                    <a:pt x="0" y="3200"/>
                  </a:lnTo>
                  <a:close/>
                </a:path>
              </a:pathLst>
            </a:custGeom>
            <a:solidFill>
              <a:srgbClr val="4644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81600" y="4050720"/>
              <a:ext cx="521280" cy="2279880"/>
            </a:xfrm>
            <a:custGeom>
              <a:avLst/>
              <a:gdLst/>
              <a:ahLst/>
              <a:rect l="l" t="t" r="r" b="b"/>
              <a:pathLst>
                <a:path w="652" h="1970">
                  <a:moveTo>
                    <a:pt x="105" y="544"/>
                  </a:moveTo>
                  <a:lnTo>
                    <a:pt x="97" y="0"/>
                  </a:lnTo>
                  <a:lnTo>
                    <a:pt x="652" y="1099"/>
                  </a:lnTo>
                  <a:lnTo>
                    <a:pt x="647" y="1107"/>
                  </a:lnTo>
                  <a:lnTo>
                    <a:pt x="633" y="1131"/>
                  </a:lnTo>
                  <a:lnTo>
                    <a:pt x="613" y="1169"/>
                  </a:lnTo>
                  <a:lnTo>
                    <a:pt x="588" y="1223"/>
                  </a:lnTo>
                  <a:lnTo>
                    <a:pt x="556" y="1282"/>
                  </a:lnTo>
                  <a:lnTo>
                    <a:pt x="519" y="1350"/>
                  </a:lnTo>
                  <a:lnTo>
                    <a:pt x="479" y="1422"/>
                  </a:lnTo>
                  <a:lnTo>
                    <a:pt x="441" y="1502"/>
                  </a:lnTo>
                  <a:lnTo>
                    <a:pt x="398" y="1580"/>
                  </a:lnTo>
                  <a:lnTo>
                    <a:pt x="358" y="1658"/>
                  </a:lnTo>
                  <a:lnTo>
                    <a:pt x="316" y="1734"/>
                  </a:lnTo>
                  <a:lnTo>
                    <a:pt x="282" y="1805"/>
                  </a:lnTo>
                  <a:lnTo>
                    <a:pt x="246" y="1869"/>
                  </a:lnTo>
                  <a:lnTo>
                    <a:pt x="219" y="1924"/>
                  </a:lnTo>
                  <a:lnTo>
                    <a:pt x="194" y="1968"/>
                  </a:lnTo>
                  <a:lnTo>
                    <a:pt x="177" y="1970"/>
                  </a:lnTo>
                  <a:lnTo>
                    <a:pt x="166" y="1970"/>
                  </a:lnTo>
                  <a:lnTo>
                    <a:pt x="156" y="1970"/>
                  </a:lnTo>
                  <a:lnTo>
                    <a:pt x="143" y="1970"/>
                  </a:lnTo>
                  <a:lnTo>
                    <a:pt x="134" y="1970"/>
                  </a:lnTo>
                  <a:lnTo>
                    <a:pt x="120" y="1970"/>
                  </a:lnTo>
                  <a:lnTo>
                    <a:pt x="111" y="1970"/>
                  </a:lnTo>
                  <a:lnTo>
                    <a:pt x="99" y="1970"/>
                  </a:lnTo>
                  <a:lnTo>
                    <a:pt x="90" y="1970"/>
                  </a:lnTo>
                  <a:lnTo>
                    <a:pt x="77" y="1970"/>
                  </a:lnTo>
                  <a:lnTo>
                    <a:pt x="65" y="1970"/>
                  </a:lnTo>
                  <a:lnTo>
                    <a:pt x="52" y="1970"/>
                  </a:lnTo>
                  <a:lnTo>
                    <a:pt x="42" y="1970"/>
                  </a:lnTo>
                  <a:lnTo>
                    <a:pt x="31" y="1970"/>
                  </a:lnTo>
                  <a:lnTo>
                    <a:pt x="21" y="1970"/>
                  </a:lnTo>
                  <a:lnTo>
                    <a:pt x="10" y="1970"/>
                  </a:lnTo>
                  <a:lnTo>
                    <a:pt x="0" y="1970"/>
                  </a:lnTo>
                  <a:lnTo>
                    <a:pt x="6" y="1970"/>
                  </a:lnTo>
                  <a:lnTo>
                    <a:pt x="16" y="1940"/>
                  </a:lnTo>
                  <a:lnTo>
                    <a:pt x="29" y="1890"/>
                  </a:lnTo>
                  <a:lnTo>
                    <a:pt x="50" y="1831"/>
                  </a:lnTo>
                  <a:lnTo>
                    <a:pt x="69" y="1763"/>
                  </a:lnTo>
                  <a:lnTo>
                    <a:pt x="92" y="1692"/>
                  </a:lnTo>
                  <a:lnTo>
                    <a:pt x="115" y="1616"/>
                  </a:lnTo>
                  <a:lnTo>
                    <a:pt x="137" y="1542"/>
                  </a:lnTo>
                  <a:lnTo>
                    <a:pt x="158" y="1464"/>
                  </a:lnTo>
                  <a:lnTo>
                    <a:pt x="181" y="1394"/>
                  </a:lnTo>
                  <a:lnTo>
                    <a:pt x="202" y="1325"/>
                  </a:lnTo>
                  <a:lnTo>
                    <a:pt x="221" y="1268"/>
                  </a:lnTo>
                  <a:lnTo>
                    <a:pt x="236" y="1215"/>
                  </a:lnTo>
                  <a:lnTo>
                    <a:pt x="248" y="1177"/>
                  </a:lnTo>
                  <a:lnTo>
                    <a:pt x="257" y="1152"/>
                  </a:lnTo>
                  <a:lnTo>
                    <a:pt x="261" y="1145"/>
                  </a:lnTo>
                  <a:lnTo>
                    <a:pt x="105" y="544"/>
                  </a:lnTo>
                  <a:lnTo>
                    <a:pt x="105" y="544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37760" y="3666600"/>
              <a:ext cx="479160" cy="2664000"/>
            </a:xfrm>
            <a:custGeom>
              <a:avLst/>
              <a:gdLst/>
              <a:ahLst/>
              <a:rect l="l" t="t" r="r" b="b"/>
              <a:pathLst>
                <a:path w="600" h="2303">
                  <a:moveTo>
                    <a:pt x="57" y="561"/>
                  </a:moveTo>
                  <a:lnTo>
                    <a:pt x="57" y="0"/>
                  </a:lnTo>
                  <a:lnTo>
                    <a:pt x="568" y="1250"/>
                  </a:lnTo>
                  <a:lnTo>
                    <a:pt x="600" y="1915"/>
                  </a:lnTo>
                  <a:lnTo>
                    <a:pt x="597" y="1919"/>
                  </a:lnTo>
                  <a:lnTo>
                    <a:pt x="589" y="1930"/>
                  </a:lnTo>
                  <a:lnTo>
                    <a:pt x="572" y="1947"/>
                  </a:lnTo>
                  <a:lnTo>
                    <a:pt x="557" y="1972"/>
                  </a:lnTo>
                  <a:lnTo>
                    <a:pt x="534" y="1999"/>
                  </a:lnTo>
                  <a:lnTo>
                    <a:pt x="511" y="2031"/>
                  </a:lnTo>
                  <a:lnTo>
                    <a:pt x="485" y="2067"/>
                  </a:lnTo>
                  <a:lnTo>
                    <a:pt x="462" y="2103"/>
                  </a:lnTo>
                  <a:lnTo>
                    <a:pt x="433" y="2139"/>
                  </a:lnTo>
                  <a:lnTo>
                    <a:pt x="405" y="2177"/>
                  </a:lnTo>
                  <a:lnTo>
                    <a:pt x="380" y="2210"/>
                  </a:lnTo>
                  <a:lnTo>
                    <a:pt x="357" y="2244"/>
                  </a:lnTo>
                  <a:lnTo>
                    <a:pt x="334" y="2273"/>
                  </a:lnTo>
                  <a:lnTo>
                    <a:pt x="315" y="2299"/>
                  </a:lnTo>
                  <a:lnTo>
                    <a:pt x="298" y="2303"/>
                  </a:lnTo>
                  <a:lnTo>
                    <a:pt x="291" y="2303"/>
                  </a:lnTo>
                  <a:lnTo>
                    <a:pt x="272" y="2303"/>
                  </a:lnTo>
                  <a:lnTo>
                    <a:pt x="255" y="2303"/>
                  </a:lnTo>
                  <a:lnTo>
                    <a:pt x="236" y="2303"/>
                  </a:lnTo>
                  <a:lnTo>
                    <a:pt x="220" y="2303"/>
                  </a:lnTo>
                  <a:lnTo>
                    <a:pt x="201" y="2303"/>
                  </a:lnTo>
                  <a:lnTo>
                    <a:pt x="184" y="2303"/>
                  </a:lnTo>
                  <a:lnTo>
                    <a:pt x="167" y="2303"/>
                  </a:lnTo>
                  <a:lnTo>
                    <a:pt x="148" y="2303"/>
                  </a:lnTo>
                  <a:lnTo>
                    <a:pt x="129" y="2303"/>
                  </a:lnTo>
                  <a:lnTo>
                    <a:pt x="110" y="2303"/>
                  </a:lnTo>
                  <a:lnTo>
                    <a:pt x="91" y="2303"/>
                  </a:lnTo>
                  <a:lnTo>
                    <a:pt x="74" y="2303"/>
                  </a:lnTo>
                  <a:lnTo>
                    <a:pt x="55" y="2303"/>
                  </a:lnTo>
                  <a:lnTo>
                    <a:pt x="36" y="2303"/>
                  </a:lnTo>
                  <a:lnTo>
                    <a:pt x="17" y="2303"/>
                  </a:lnTo>
                  <a:lnTo>
                    <a:pt x="0" y="2303"/>
                  </a:lnTo>
                  <a:lnTo>
                    <a:pt x="9" y="2303"/>
                  </a:lnTo>
                  <a:lnTo>
                    <a:pt x="25" y="2273"/>
                  </a:lnTo>
                  <a:lnTo>
                    <a:pt x="44" y="2231"/>
                  </a:lnTo>
                  <a:lnTo>
                    <a:pt x="66" y="2183"/>
                  </a:lnTo>
                  <a:lnTo>
                    <a:pt x="89" y="2132"/>
                  </a:lnTo>
                  <a:lnTo>
                    <a:pt x="116" y="2075"/>
                  </a:lnTo>
                  <a:lnTo>
                    <a:pt x="142" y="2018"/>
                  </a:lnTo>
                  <a:lnTo>
                    <a:pt x="169" y="1963"/>
                  </a:lnTo>
                  <a:lnTo>
                    <a:pt x="194" y="1904"/>
                  </a:lnTo>
                  <a:lnTo>
                    <a:pt x="220" y="1852"/>
                  </a:lnTo>
                  <a:lnTo>
                    <a:pt x="243" y="1803"/>
                  </a:lnTo>
                  <a:lnTo>
                    <a:pt x="264" y="1761"/>
                  </a:lnTo>
                  <a:lnTo>
                    <a:pt x="279" y="1723"/>
                  </a:lnTo>
                  <a:lnTo>
                    <a:pt x="294" y="1696"/>
                  </a:lnTo>
                  <a:lnTo>
                    <a:pt x="302" y="1679"/>
                  </a:lnTo>
                  <a:lnTo>
                    <a:pt x="306" y="1674"/>
                  </a:lnTo>
                  <a:lnTo>
                    <a:pt x="306" y="1305"/>
                  </a:lnTo>
                  <a:lnTo>
                    <a:pt x="57" y="561"/>
                  </a:lnTo>
                  <a:lnTo>
                    <a:pt x="57" y="561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44680" y="3819240"/>
              <a:ext cx="434520" cy="2511360"/>
            </a:xfrm>
            <a:custGeom>
              <a:avLst/>
              <a:gdLst/>
              <a:ahLst/>
              <a:rect l="l" t="t" r="r" b="b"/>
              <a:pathLst>
                <a:path w="543" h="2170">
                  <a:moveTo>
                    <a:pt x="0" y="80"/>
                  </a:moveTo>
                  <a:lnTo>
                    <a:pt x="97" y="0"/>
                  </a:lnTo>
                  <a:lnTo>
                    <a:pt x="338" y="502"/>
                  </a:lnTo>
                  <a:lnTo>
                    <a:pt x="543" y="1126"/>
                  </a:lnTo>
                  <a:lnTo>
                    <a:pt x="532" y="1563"/>
                  </a:lnTo>
                  <a:lnTo>
                    <a:pt x="528" y="1569"/>
                  </a:lnTo>
                  <a:lnTo>
                    <a:pt x="521" y="1586"/>
                  </a:lnTo>
                  <a:lnTo>
                    <a:pt x="511" y="1611"/>
                  </a:lnTo>
                  <a:lnTo>
                    <a:pt x="498" y="1647"/>
                  </a:lnTo>
                  <a:lnTo>
                    <a:pt x="481" y="1689"/>
                  </a:lnTo>
                  <a:lnTo>
                    <a:pt x="464" y="1736"/>
                  </a:lnTo>
                  <a:lnTo>
                    <a:pt x="445" y="1788"/>
                  </a:lnTo>
                  <a:lnTo>
                    <a:pt x="426" y="1843"/>
                  </a:lnTo>
                  <a:lnTo>
                    <a:pt x="403" y="1896"/>
                  </a:lnTo>
                  <a:lnTo>
                    <a:pt x="382" y="1951"/>
                  </a:lnTo>
                  <a:lnTo>
                    <a:pt x="361" y="2005"/>
                  </a:lnTo>
                  <a:lnTo>
                    <a:pt x="344" y="2056"/>
                  </a:lnTo>
                  <a:lnTo>
                    <a:pt x="325" y="2102"/>
                  </a:lnTo>
                  <a:lnTo>
                    <a:pt x="310" y="2141"/>
                  </a:lnTo>
                  <a:lnTo>
                    <a:pt x="298" y="2170"/>
                  </a:lnTo>
                  <a:lnTo>
                    <a:pt x="291" y="2170"/>
                  </a:lnTo>
                  <a:lnTo>
                    <a:pt x="277" y="2170"/>
                  </a:lnTo>
                  <a:lnTo>
                    <a:pt x="264" y="2170"/>
                  </a:lnTo>
                  <a:lnTo>
                    <a:pt x="249" y="2170"/>
                  </a:lnTo>
                  <a:lnTo>
                    <a:pt x="237" y="2170"/>
                  </a:lnTo>
                  <a:lnTo>
                    <a:pt x="224" y="2170"/>
                  </a:lnTo>
                  <a:lnTo>
                    <a:pt x="209" y="2170"/>
                  </a:lnTo>
                  <a:lnTo>
                    <a:pt x="196" y="2170"/>
                  </a:lnTo>
                  <a:lnTo>
                    <a:pt x="182" y="2170"/>
                  </a:lnTo>
                  <a:lnTo>
                    <a:pt x="167" y="2170"/>
                  </a:lnTo>
                  <a:lnTo>
                    <a:pt x="154" y="2170"/>
                  </a:lnTo>
                  <a:lnTo>
                    <a:pt x="139" y="2170"/>
                  </a:lnTo>
                  <a:lnTo>
                    <a:pt x="123" y="2170"/>
                  </a:lnTo>
                  <a:lnTo>
                    <a:pt x="108" y="2170"/>
                  </a:lnTo>
                  <a:lnTo>
                    <a:pt x="95" y="2170"/>
                  </a:lnTo>
                  <a:lnTo>
                    <a:pt x="80" y="2170"/>
                  </a:lnTo>
                  <a:lnTo>
                    <a:pt x="66" y="2170"/>
                  </a:lnTo>
                  <a:lnTo>
                    <a:pt x="68" y="2170"/>
                  </a:lnTo>
                  <a:lnTo>
                    <a:pt x="72" y="2164"/>
                  </a:lnTo>
                  <a:lnTo>
                    <a:pt x="76" y="2140"/>
                  </a:lnTo>
                  <a:lnTo>
                    <a:pt x="83" y="2115"/>
                  </a:lnTo>
                  <a:lnTo>
                    <a:pt x="89" y="2088"/>
                  </a:lnTo>
                  <a:lnTo>
                    <a:pt x="95" y="2060"/>
                  </a:lnTo>
                  <a:lnTo>
                    <a:pt x="101" y="2029"/>
                  </a:lnTo>
                  <a:lnTo>
                    <a:pt x="108" y="2003"/>
                  </a:lnTo>
                  <a:lnTo>
                    <a:pt x="114" y="1972"/>
                  </a:lnTo>
                  <a:lnTo>
                    <a:pt x="120" y="1946"/>
                  </a:lnTo>
                  <a:lnTo>
                    <a:pt x="123" y="1919"/>
                  </a:lnTo>
                  <a:lnTo>
                    <a:pt x="129" y="1900"/>
                  </a:lnTo>
                  <a:lnTo>
                    <a:pt x="133" y="1881"/>
                  </a:lnTo>
                  <a:lnTo>
                    <a:pt x="137" y="1870"/>
                  </a:lnTo>
                  <a:lnTo>
                    <a:pt x="139" y="1860"/>
                  </a:lnTo>
                  <a:lnTo>
                    <a:pt x="140" y="1858"/>
                  </a:lnTo>
                  <a:lnTo>
                    <a:pt x="247" y="1871"/>
                  </a:lnTo>
                  <a:lnTo>
                    <a:pt x="370" y="1255"/>
                  </a:lnTo>
                  <a:lnTo>
                    <a:pt x="194" y="1082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89320" y="3895200"/>
              <a:ext cx="438120" cy="2435040"/>
            </a:xfrm>
            <a:custGeom>
              <a:avLst/>
              <a:gdLst/>
              <a:ahLst/>
              <a:rect l="l" t="t" r="r" b="b"/>
              <a:pathLst>
                <a:path w="547" h="2103">
                  <a:moveTo>
                    <a:pt x="72" y="0"/>
                  </a:moveTo>
                  <a:lnTo>
                    <a:pt x="76" y="6"/>
                  </a:lnTo>
                  <a:lnTo>
                    <a:pt x="89" y="27"/>
                  </a:lnTo>
                  <a:lnTo>
                    <a:pt x="110" y="59"/>
                  </a:lnTo>
                  <a:lnTo>
                    <a:pt x="141" y="105"/>
                  </a:lnTo>
                  <a:lnTo>
                    <a:pt x="173" y="160"/>
                  </a:lnTo>
                  <a:lnTo>
                    <a:pt x="213" y="224"/>
                  </a:lnTo>
                  <a:lnTo>
                    <a:pt x="253" y="295"/>
                  </a:lnTo>
                  <a:lnTo>
                    <a:pt x="295" y="378"/>
                  </a:lnTo>
                  <a:lnTo>
                    <a:pt x="336" y="464"/>
                  </a:lnTo>
                  <a:lnTo>
                    <a:pt x="378" y="559"/>
                  </a:lnTo>
                  <a:lnTo>
                    <a:pt x="418" y="656"/>
                  </a:lnTo>
                  <a:lnTo>
                    <a:pt x="456" y="761"/>
                  </a:lnTo>
                  <a:lnTo>
                    <a:pt x="485" y="863"/>
                  </a:lnTo>
                  <a:lnTo>
                    <a:pt x="511" y="972"/>
                  </a:lnTo>
                  <a:lnTo>
                    <a:pt x="530" y="1080"/>
                  </a:lnTo>
                  <a:lnTo>
                    <a:pt x="544" y="1188"/>
                  </a:lnTo>
                  <a:lnTo>
                    <a:pt x="545" y="1285"/>
                  </a:lnTo>
                  <a:lnTo>
                    <a:pt x="547" y="1380"/>
                  </a:lnTo>
                  <a:lnTo>
                    <a:pt x="544" y="1468"/>
                  </a:lnTo>
                  <a:lnTo>
                    <a:pt x="540" y="1553"/>
                  </a:lnTo>
                  <a:lnTo>
                    <a:pt x="532" y="1631"/>
                  </a:lnTo>
                  <a:lnTo>
                    <a:pt x="525" y="1706"/>
                  </a:lnTo>
                  <a:lnTo>
                    <a:pt x="513" y="1776"/>
                  </a:lnTo>
                  <a:lnTo>
                    <a:pt x="506" y="1841"/>
                  </a:lnTo>
                  <a:lnTo>
                    <a:pt x="490" y="1896"/>
                  </a:lnTo>
                  <a:lnTo>
                    <a:pt x="481" y="1949"/>
                  </a:lnTo>
                  <a:lnTo>
                    <a:pt x="468" y="1995"/>
                  </a:lnTo>
                  <a:lnTo>
                    <a:pt x="458" y="2036"/>
                  </a:lnTo>
                  <a:lnTo>
                    <a:pt x="445" y="2069"/>
                  </a:lnTo>
                  <a:lnTo>
                    <a:pt x="437" y="2097"/>
                  </a:lnTo>
                  <a:lnTo>
                    <a:pt x="429" y="2103"/>
                  </a:lnTo>
                  <a:lnTo>
                    <a:pt x="426" y="2103"/>
                  </a:lnTo>
                  <a:lnTo>
                    <a:pt x="409" y="2103"/>
                  </a:lnTo>
                  <a:lnTo>
                    <a:pt x="391" y="2103"/>
                  </a:lnTo>
                  <a:lnTo>
                    <a:pt x="374" y="2103"/>
                  </a:lnTo>
                  <a:lnTo>
                    <a:pt x="357" y="2103"/>
                  </a:lnTo>
                  <a:lnTo>
                    <a:pt x="338" y="2103"/>
                  </a:lnTo>
                  <a:lnTo>
                    <a:pt x="321" y="2103"/>
                  </a:lnTo>
                  <a:lnTo>
                    <a:pt x="304" y="2103"/>
                  </a:lnTo>
                  <a:lnTo>
                    <a:pt x="287" y="2103"/>
                  </a:lnTo>
                  <a:lnTo>
                    <a:pt x="268" y="2103"/>
                  </a:lnTo>
                  <a:lnTo>
                    <a:pt x="249" y="2103"/>
                  </a:lnTo>
                  <a:lnTo>
                    <a:pt x="230" y="2103"/>
                  </a:lnTo>
                  <a:lnTo>
                    <a:pt x="211" y="2103"/>
                  </a:lnTo>
                  <a:lnTo>
                    <a:pt x="190" y="2103"/>
                  </a:lnTo>
                  <a:lnTo>
                    <a:pt x="169" y="2103"/>
                  </a:lnTo>
                  <a:lnTo>
                    <a:pt x="150" y="2103"/>
                  </a:lnTo>
                  <a:lnTo>
                    <a:pt x="131" y="2103"/>
                  </a:lnTo>
                  <a:lnTo>
                    <a:pt x="139" y="2103"/>
                  </a:lnTo>
                  <a:lnTo>
                    <a:pt x="152" y="2086"/>
                  </a:lnTo>
                  <a:lnTo>
                    <a:pt x="169" y="2048"/>
                  </a:lnTo>
                  <a:lnTo>
                    <a:pt x="190" y="2006"/>
                  </a:lnTo>
                  <a:lnTo>
                    <a:pt x="213" y="1958"/>
                  </a:lnTo>
                  <a:lnTo>
                    <a:pt x="238" y="1905"/>
                  </a:lnTo>
                  <a:lnTo>
                    <a:pt x="262" y="1852"/>
                  </a:lnTo>
                  <a:lnTo>
                    <a:pt x="291" y="1799"/>
                  </a:lnTo>
                  <a:lnTo>
                    <a:pt x="314" y="1745"/>
                  </a:lnTo>
                  <a:lnTo>
                    <a:pt x="336" y="1694"/>
                  </a:lnTo>
                  <a:lnTo>
                    <a:pt x="359" y="1647"/>
                  </a:lnTo>
                  <a:lnTo>
                    <a:pt x="380" y="1605"/>
                  </a:lnTo>
                  <a:lnTo>
                    <a:pt x="397" y="1569"/>
                  </a:lnTo>
                  <a:lnTo>
                    <a:pt x="410" y="1544"/>
                  </a:lnTo>
                  <a:lnTo>
                    <a:pt x="420" y="1527"/>
                  </a:lnTo>
                  <a:lnTo>
                    <a:pt x="422" y="1521"/>
                  </a:lnTo>
                  <a:lnTo>
                    <a:pt x="325" y="1462"/>
                  </a:lnTo>
                  <a:lnTo>
                    <a:pt x="445" y="1188"/>
                  </a:lnTo>
                  <a:lnTo>
                    <a:pt x="150" y="677"/>
                  </a:lnTo>
                  <a:lnTo>
                    <a:pt x="272" y="555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24800" y="4185000"/>
              <a:ext cx="731880" cy="2145600"/>
            </a:xfrm>
            <a:custGeom>
              <a:avLst/>
              <a:gdLst/>
              <a:ahLst/>
              <a:rect l="l" t="t" r="r" b="b"/>
              <a:pathLst>
                <a:path w="917" h="1854">
                  <a:moveTo>
                    <a:pt x="677" y="175"/>
                  </a:moveTo>
                  <a:lnTo>
                    <a:pt x="917" y="0"/>
                  </a:lnTo>
                  <a:lnTo>
                    <a:pt x="863" y="1029"/>
                  </a:lnTo>
                  <a:lnTo>
                    <a:pt x="856" y="1036"/>
                  </a:lnTo>
                  <a:lnTo>
                    <a:pt x="839" y="1059"/>
                  </a:lnTo>
                  <a:lnTo>
                    <a:pt x="812" y="1093"/>
                  </a:lnTo>
                  <a:lnTo>
                    <a:pt x="780" y="1141"/>
                  </a:lnTo>
                  <a:lnTo>
                    <a:pt x="738" y="1196"/>
                  </a:lnTo>
                  <a:lnTo>
                    <a:pt x="692" y="1259"/>
                  </a:lnTo>
                  <a:lnTo>
                    <a:pt x="641" y="1325"/>
                  </a:lnTo>
                  <a:lnTo>
                    <a:pt x="592" y="1400"/>
                  </a:lnTo>
                  <a:lnTo>
                    <a:pt x="535" y="1474"/>
                  </a:lnTo>
                  <a:lnTo>
                    <a:pt x="483" y="1546"/>
                  </a:lnTo>
                  <a:lnTo>
                    <a:pt x="428" y="1618"/>
                  </a:lnTo>
                  <a:lnTo>
                    <a:pt x="382" y="1687"/>
                  </a:lnTo>
                  <a:lnTo>
                    <a:pt x="335" y="1747"/>
                  </a:lnTo>
                  <a:lnTo>
                    <a:pt x="295" y="1803"/>
                  </a:lnTo>
                  <a:lnTo>
                    <a:pt x="261" y="1848"/>
                  </a:lnTo>
                  <a:lnTo>
                    <a:pt x="238" y="1854"/>
                  </a:lnTo>
                  <a:lnTo>
                    <a:pt x="217" y="1854"/>
                  </a:lnTo>
                  <a:lnTo>
                    <a:pt x="200" y="1854"/>
                  </a:lnTo>
                  <a:lnTo>
                    <a:pt x="183" y="1854"/>
                  </a:lnTo>
                  <a:lnTo>
                    <a:pt x="168" y="1854"/>
                  </a:lnTo>
                  <a:lnTo>
                    <a:pt x="151" y="1854"/>
                  </a:lnTo>
                  <a:lnTo>
                    <a:pt x="133" y="1854"/>
                  </a:lnTo>
                  <a:lnTo>
                    <a:pt x="118" y="1854"/>
                  </a:lnTo>
                  <a:lnTo>
                    <a:pt x="105" y="1854"/>
                  </a:lnTo>
                  <a:lnTo>
                    <a:pt x="90" y="1854"/>
                  </a:lnTo>
                  <a:lnTo>
                    <a:pt x="73" y="1854"/>
                  </a:lnTo>
                  <a:lnTo>
                    <a:pt x="59" y="1854"/>
                  </a:lnTo>
                  <a:lnTo>
                    <a:pt x="48" y="1854"/>
                  </a:lnTo>
                  <a:lnTo>
                    <a:pt x="33" y="1854"/>
                  </a:lnTo>
                  <a:lnTo>
                    <a:pt x="21" y="1854"/>
                  </a:lnTo>
                  <a:lnTo>
                    <a:pt x="10" y="1854"/>
                  </a:lnTo>
                  <a:lnTo>
                    <a:pt x="0" y="1854"/>
                  </a:lnTo>
                  <a:lnTo>
                    <a:pt x="12" y="1782"/>
                  </a:lnTo>
                  <a:lnTo>
                    <a:pt x="35" y="1689"/>
                  </a:lnTo>
                  <a:lnTo>
                    <a:pt x="65" y="1595"/>
                  </a:lnTo>
                  <a:lnTo>
                    <a:pt x="103" y="1512"/>
                  </a:lnTo>
                  <a:lnTo>
                    <a:pt x="143" y="1434"/>
                  </a:lnTo>
                  <a:lnTo>
                    <a:pt x="189" y="1360"/>
                  </a:lnTo>
                  <a:lnTo>
                    <a:pt x="236" y="1291"/>
                  </a:lnTo>
                  <a:lnTo>
                    <a:pt x="286" y="1232"/>
                  </a:lnTo>
                  <a:lnTo>
                    <a:pt x="331" y="1175"/>
                  </a:lnTo>
                  <a:lnTo>
                    <a:pt x="377" y="1130"/>
                  </a:lnTo>
                  <a:lnTo>
                    <a:pt x="419" y="1088"/>
                  </a:lnTo>
                  <a:lnTo>
                    <a:pt x="458" y="1055"/>
                  </a:lnTo>
                  <a:lnTo>
                    <a:pt x="489" y="1027"/>
                  </a:lnTo>
                  <a:lnTo>
                    <a:pt x="514" y="1008"/>
                  </a:lnTo>
                  <a:lnTo>
                    <a:pt x="531" y="998"/>
                  </a:lnTo>
                  <a:lnTo>
                    <a:pt x="536" y="995"/>
                  </a:lnTo>
                  <a:lnTo>
                    <a:pt x="677" y="175"/>
                  </a:lnTo>
                  <a:lnTo>
                    <a:pt x="677" y="175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89960" y="4198680"/>
              <a:ext cx="821880" cy="2131920"/>
            </a:xfrm>
            <a:custGeom>
              <a:avLst/>
              <a:gdLst/>
              <a:ahLst/>
              <a:rect l="l" t="t" r="r" b="b"/>
              <a:pathLst>
                <a:path w="1028" h="1843">
                  <a:moveTo>
                    <a:pt x="791" y="67"/>
                  </a:moveTo>
                  <a:lnTo>
                    <a:pt x="1028" y="0"/>
                  </a:lnTo>
                  <a:lnTo>
                    <a:pt x="867" y="1236"/>
                  </a:lnTo>
                  <a:lnTo>
                    <a:pt x="859" y="1242"/>
                  </a:lnTo>
                  <a:lnTo>
                    <a:pt x="844" y="1257"/>
                  </a:lnTo>
                  <a:lnTo>
                    <a:pt x="817" y="1282"/>
                  </a:lnTo>
                  <a:lnTo>
                    <a:pt x="787" y="1316"/>
                  </a:lnTo>
                  <a:lnTo>
                    <a:pt x="749" y="1356"/>
                  </a:lnTo>
                  <a:lnTo>
                    <a:pt x="707" y="1404"/>
                  </a:lnTo>
                  <a:lnTo>
                    <a:pt x="660" y="1453"/>
                  </a:lnTo>
                  <a:lnTo>
                    <a:pt x="612" y="1506"/>
                  </a:lnTo>
                  <a:lnTo>
                    <a:pt x="559" y="1560"/>
                  </a:lnTo>
                  <a:lnTo>
                    <a:pt x="510" y="1615"/>
                  </a:lnTo>
                  <a:lnTo>
                    <a:pt x="458" y="1668"/>
                  </a:lnTo>
                  <a:lnTo>
                    <a:pt x="413" y="1721"/>
                  </a:lnTo>
                  <a:lnTo>
                    <a:pt x="367" y="1767"/>
                  </a:lnTo>
                  <a:lnTo>
                    <a:pt x="329" y="1809"/>
                  </a:lnTo>
                  <a:lnTo>
                    <a:pt x="297" y="1843"/>
                  </a:lnTo>
                  <a:lnTo>
                    <a:pt x="272" y="1843"/>
                  </a:lnTo>
                  <a:lnTo>
                    <a:pt x="251" y="1843"/>
                  </a:lnTo>
                  <a:lnTo>
                    <a:pt x="232" y="1843"/>
                  </a:lnTo>
                  <a:lnTo>
                    <a:pt x="213" y="1843"/>
                  </a:lnTo>
                  <a:lnTo>
                    <a:pt x="196" y="1843"/>
                  </a:lnTo>
                  <a:lnTo>
                    <a:pt x="175" y="1843"/>
                  </a:lnTo>
                  <a:lnTo>
                    <a:pt x="158" y="1843"/>
                  </a:lnTo>
                  <a:lnTo>
                    <a:pt x="139" y="1843"/>
                  </a:lnTo>
                  <a:lnTo>
                    <a:pt x="124" y="1843"/>
                  </a:lnTo>
                  <a:lnTo>
                    <a:pt x="107" y="1843"/>
                  </a:lnTo>
                  <a:lnTo>
                    <a:pt x="89" y="1843"/>
                  </a:lnTo>
                  <a:lnTo>
                    <a:pt x="72" y="1843"/>
                  </a:lnTo>
                  <a:lnTo>
                    <a:pt x="57" y="1843"/>
                  </a:lnTo>
                  <a:lnTo>
                    <a:pt x="42" y="1843"/>
                  </a:lnTo>
                  <a:lnTo>
                    <a:pt x="27" y="1843"/>
                  </a:lnTo>
                  <a:lnTo>
                    <a:pt x="12" y="1843"/>
                  </a:lnTo>
                  <a:lnTo>
                    <a:pt x="0" y="1843"/>
                  </a:lnTo>
                  <a:lnTo>
                    <a:pt x="4" y="1843"/>
                  </a:lnTo>
                  <a:lnTo>
                    <a:pt x="10" y="1839"/>
                  </a:lnTo>
                  <a:lnTo>
                    <a:pt x="17" y="1818"/>
                  </a:lnTo>
                  <a:lnTo>
                    <a:pt x="27" y="1795"/>
                  </a:lnTo>
                  <a:lnTo>
                    <a:pt x="32" y="1767"/>
                  </a:lnTo>
                  <a:lnTo>
                    <a:pt x="42" y="1742"/>
                  </a:lnTo>
                  <a:lnTo>
                    <a:pt x="51" y="1716"/>
                  </a:lnTo>
                  <a:lnTo>
                    <a:pt x="61" y="1689"/>
                  </a:lnTo>
                  <a:lnTo>
                    <a:pt x="69" y="1662"/>
                  </a:lnTo>
                  <a:lnTo>
                    <a:pt x="74" y="1638"/>
                  </a:lnTo>
                  <a:lnTo>
                    <a:pt x="82" y="1615"/>
                  </a:lnTo>
                  <a:lnTo>
                    <a:pt x="91" y="1596"/>
                  </a:lnTo>
                  <a:lnTo>
                    <a:pt x="93" y="1579"/>
                  </a:lnTo>
                  <a:lnTo>
                    <a:pt x="99" y="1567"/>
                  </a:lnTo>
                  <a:lnTo>
                    <a:pt x="103" y="1558"/>
                  </a:lnTo>
                  <a:lnTo>
                    <a:pt x="105" y="1556"/>
                  </a:lnTo>
                  <a:lnTo>
                    <a:pt x="300" y="1430"/>
                  </a:lnTo>
                  <a:lnTo>
                    <a:pt x="268" y="1381"/>
                  </a:lnTo>
                  <a:lnTo>
                    <a:pt x="576" y="1094"/>
                  </a:lnTo>
                  <a:lnTo>
                    <a:pt x="715" y="603"/>
                  </a:lnTo>
                  <a:lnTo>
                    <a:pt x="637" y="548"/>
                  </a:lnTo>
                  <a:lnTo>
                    <a:pt x="791" y="67"/>
                  </a:lnTo>
                  <a:lnTo>
                    <a:pt x="791" y="67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22800" y="3870000"/>
              <a:ext cx="780120" cy="2460240"/>
            </a:xfrm>
            <a:custGeom>
              <a:avLst/>
              <a:gdLst/>
              <a:ahLst/>
              <a:rect l="l" t="t" r="r" b="b"/>
              <a:pathLst>
                <a:path w="976" h="2126">
                  <a:moveTo>
                    <a:pt x="789" y="0"/>
                  </a:moveTo>
                  <a:lnTo>
                    <a:pt x="976" y="0"/>
                  </a:lnTo>
                  <a:lnTo>
                    <a:pt x="842" y="1443"/>
                  </a:lnTo>
                  <a:lnTo>
                    <a:pt x="837" y="1447"/>
                  </a:lnTo>
                  <a:lnTo>
                    <a:pt x="825" y="1468"/>
                  </a:lnTo>
                  <a:lnTo>
                    <a:pt x="806" y="1495"/>
                  </a:lnTo>
                  <a:lnTo>
                    <a:pt x="784" y="1535"/>
                  </a:lnTo>
                  <a:lnTo>
                    <a:pt x="751" y="1580"/>
                  </a:lnTo>
                  <a:lnTo>
                    <a:pt x="721" y="1632"/>
                  </a:lnTo>
                  <a:lnTo>
                    <a:pt x="685" y="1687"/>
                  </a:lnTo>
                  <a:lnTo>
                    <a:pt x="649" y="1749"/>
                  </a:lnTo>
                  <a:lnTo>
                    <a:pt x="609" y="1810"/>
                  </a:lnTo>
                  <a:lnTo>
                    <a:pt x="571" y="1873"/>
                  </a:lnTo>
                  <a:lnTo>
                    <a:pt x="533" y="1932"/>
                  </a:lnTo>
                  <a:lnTo>
                    <a:pt x="497" y="1989"/>
                  </a:lnTo>
                  <a:lnTo>
                    <a:pt x="464" y="2040"/>
                  </a:lnTo>
                  <a:lnTo>
                    <a:pt x="434" y="2088"/>
                  </a:lnTo>
                  <a:lnTo>
                    <a:pt x="411" y="2126"/>
                  </a:lnTo>
                  <a:lnTo>
                    <a:pt x="392" y="2126"/>
                  </a:lnTo>
                  <a:lnTo>
                    <a:pt x="365" y="2126"/>
                  </a:lnTo>
                  <a:lnTo>
                    <a:pt x="337" y="2126"/>
                  </a:lnTo>
                  <a:lnTo>
                    <a:pt x="310" y="2126"/>
                  </a:lnTo>
                  <a:lnTo>
                    <a:pt x="286" y="2126"/>
                  </a:lnTo>
                  <a:lnTo>
                    <a:pt x="261" y="2126"/>
                  </a:lnTo>
                  <a:lnTo>
                    <a:pt x="234" y="2126"/>
                  </a:lnTo>
                  <a:lnTo>
                    <a:pt x="209" y="2126"/>
                  </a:lnTo>
                  <a:lnTo>
                    <a:pt x="185" y="2126"/>
                  </a:lnTo>
                  <a:lnTo>
                    <a:pt x="158" y="2126"/>
                  </a:lnTo>
                  <a:lnTo>
                    <a:pt x="135" y="2126"/>
                  </a:lnTo>
                  <a:lnTo>
                    <a:pt x="113" y="2126"/>
                  </a:lnTo>
                  <a:lnTo>
                    <a:pt x="90" y="2126"/>
                  </a:lnTo>
                  <a:lnTo>
                    <a:pt x="65" y="2126"/>
                  </a:lnTo>
                  <a:lnTo>
                    <a:pt x="42" y="2126"/>
                  </a:lnTo>
                  <a:lnTo>
                    <a:pt x="21" y="2126"/>
                  </a:lnTo>
                  <a:lnTo>
                    <a:pt x="0" y="2126"/>
                  </a:lnTo>
                  <a:lnTo>
                    <a:pt x="6" y="2126"/>
                  </a:lnTo>
                  <a:lnTo>
                    <a:pt x="10" y="2126"/>
                  </a:lnTo>
                  <a:lnTo>
                    <a:pt x="18" y="2107"/>
                  </a:lnTo>
                  <a:lnTo>
                    <a:pt x="25" y="2088"/>
                  </a:lnTo>
                  <a:lnTo>
                    <a:pt x="31" y="2067"/>
                  </a:lnTo>
                  <a:lnTo>
                    <a:pt x="38" y="2048"/>
                  </a:lnTo>
                  <a:lnTo>
                    <a:pt x="46" y="2027"/>
                  </a:lnTo>
                  <a:lnTo>
                    <a:pt x="54" y="2008"/>
                  </a:lnTo>
                  <a:lnTo>
                    <a:pt x="59" y="1987"/>
                  </a:lnTo>
                  <a:lnTo>
                    <a:pt x="67" y="1970"/>
                  </a:lnTo>
                  <a:lnTo>
                    <a:pt x="73" y="1955"/>
                  </a:lnTo>
                  <a:lnTo>
                    <a:pt x="78" y="1940"/>
                  </a:lnTo>
                  <a:lnTo>
                    <a:pt x="82" y="1928"/>
                  </a:lnTo>
                  <a:lnTo>
                    <a:pt x="86" y="1919"/>
                  </a:lnTo>
                  <a:lnTo>
                    <a:pt x="88" y="1913"/>
                  </a:lnTo>
                  <a:lnTo>
                    <a:pt x="90" y="1913"/>
                  </a:lnTo>
                  <a:lnTo>
                    <a:pt x="187" y="1924"/>
                  </a:lnTo>
                  <a:lnTo>
                    <a:pt x="295" y="1630"/>
                  </a:lnTo>
                  <a:lnTo>
                    <a:pt x="571" y="1453"/>
                  </a:lnTo>
                  <a:lnTo>
                    <a:pt x="645" y="1038"/>
                  </a:lnTo>
                  <a:lnTo>
                    <a:pt x="789" y="0"/>
                  </a:lnTo>
                  <a:lnTo>
                    <a:pt x="789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84440" y="3911400"/>
              <a:ext cx="651960" cy="2418840"/>
            </a:xfrm>
            <a:custGeom>
              <a:avLst/>
              <a:gdLst/>
              <a:ahLst/>
              <a:rect l="l" t="t" r="r" b="b"/>
              <a:pathLst>
                <a:path w="815" h="2090">
                  <a:moveTo>
                    <a:pt x="815" y="15"/>
                  </a:moveTo>
                  <a:lnTo>
                    <a:pt x="718" y="1364"/>
                  </a:lnTo>
                  <a:lnTo>
                    <a:pt x="715" y="1367"/>
                  </a:lnTo>
                  <a:lnTo>
                    <a:pt x="703" y="1388"/>
                  </a:lnTo>
                  <a:lnTo>
                    <a:pt x="688" y="1417"/>
                  </a:lnTo>
                  <a:lnTo>
                    <a:pt x="667" y="1457"/>
                  </a:lnTo>
                  <a:lnTo>
                    <a:pt x="639" y="1504"/>
                  </a:lnTo>
                  <a:lnTo>
                    <a:pt x="610" y="1559"/>
                  </a:lnTo>
                  <a:lnTo>
                    <a:pt x="578" y="1617"/>
                  </a:lnTo>
                  <a:lnTo>
                    <a:pt x="545" y="1681"/>
                  </a:lnTo>
                  <a:lnTo>
                    <a:pt x="511" y="1744"/>
                  </a:lnTo>
                  <a:lnTo>
                    <a:pt x="477" y="1810"/>
                  </a:lnTo>
                  <a:lnTo>
                    <a:pt x="441" y="1871"/>
                  </a:lnTo>
                  <a:lnTo>
                    <a:pt x="410" y="1934"/>
                  </a:lnTo>
                  <a:lnTo>
                    <a:pt x="378" y="1989"/>
                  </a:lnTo>
                  <a:lnTo>
                    <a:pt x="352" y="2041"/>
                  </a:lnTo>
                  <a:lnTo>
                    <a:pt x="329" y="2084"/>
                  </a:lnTo>
                  <a:lnTo>
                    <a:pt x="312" y="2090"/>
                  </a:lnTo>
                  <a:lnTo>
                    <a:pt x="291" y="2090"/>
                  </a:lnTo>
                  <a:lnTo>
                    <a:pt x="272" y="2090"/>
                  </a:lnTo>
                  <a:lnTo>
                    <a:pt x="251" y="2090"/>
                  </a:lnTo>
                  <a:lnTo>
                    <a:pt x="230" y="2090"/>
                  </a:lnTo>
                  <a:lnTo>
                    <a:pt x="209" y="2090"/>
                  </a:lnTo>
                  <a:lnTo>
                    <a:pt x="190" y="2090"/>
                  </a:lnTo>
                  <a:lnTo>
                    <a:pt x="171" y="2090"/>
                  </a:lnTo>
                  <a:lnTo>
                    <a:pt x="152" y="2090"/>
                  </a:lnTo>
                  <a:lnTo>
                    <a:pt x="131" y="2090"/>
                  </a:lnTo>
                  <a:lnTo>
                    <a:pt x="112" y="2090"/>
                  </a:lnTo>
                  <a:lnTo>
                    <a:pt x="93" y="2090"/>
                  </a:lnTo>
                  <a:lnTo>
                    <a:pt x="74" y="2090"/>
                  </a:lnTo>
                  <a:lnTo>
                    <a:pt x="53" y="2090"/>
                  </a:lnTo>
                  <a:lnTo>
                    <a:pt x="36" y="2090"/>
                  </a:lnTo>
                  <a:lnTo>
                    <a:pt x="17" y="2090"/>
                  </a:lnTo>
                  <a:lnTo>
                    <a:pt x="0" y="2090"/>
                  </a:lnTo>
                  <a:lnTo>
                    <a:pt x="7" y="2090"/>
                  </a:lnTo>
                  <a:lnTo>
                    <a:pt x="19" y="2071"/>
                  </a:lnTo>
                  <a:lnTo>
                    <a:pt x="30" y="2039"/>
                  </a:lnTo>
                  <a:lnTo>
                    <a:pt x="46" y="2010"/>
                  </a:lnTo>
                  <a:lnTo>
                    <a:pt x="59" y="1974"/>
                  </a:lnTo>
                  <a:lnTo>
                    <a:pt x="72" y="1940"/>
                  </a:lnTo>
                  <a:lnTo>
                    <a:pt x="85" y="1904"/>
                  </a:lnTo>
                  <a:lnTo>
                    <a:pt x="103" y="1869"/>
                  </a:lnTo>
                  <a:lnTo>
                    <a:pt x="114" y="1835"/>
                  </a:lnTo>
                  <a:lnTo>
                    <a:pt x="127" y="1805"/>
                  </a:lnTo>
                  <a:lnTo>
                    <a:pt x="139" y="1776"/>
                  </a:lnTo>
                  <a:lnTo>
                    <a:pt x="150" y="1752"/>
                  </a:lnTo>
                  <a:lnTo>
                    <a:pt x="158" y="1731"/>
                  </a:lnTo>
                  <a:lnTo>
                    <a:pt x="165" y="1713"/>
                  </a:lnTo>
                  <a:lnTo>
                    <a:pt x="167" y="1704"/>
                  </a:lnTo>
                  <a:lnTo>
                    <a:pt x="171" y="1702"/>
                  </a:lnTo>
                  <a:lnTo>
                    <a:pt x="226" y="1864"/>
                  </a:lnTo>
                  <a:lnTo>
                    <a:pt x="357" y="1527"/>
                  </a:lnTo>
                  <a:lnTo>
                    <a:pt x="574" y="1430"/>
                  </a:lnTo>
                  <a:lnTo>
                    <a:pt x="555" y="924"/>
                  </a:lnTo>
                  <a:lnTo>
                    <a:pt x="640" y="719"/>
                  </a:lnTo>
                  <a:lnTo>
                    <a:pt x="707" y="0"/>
                  </a:lnTo>
                  <a:lnTo>
                    <a:pt x="815" y="15"/>
                  </a:lnTo>
                  <a:lnTo>
                    <a:pt x="815" y="15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24760" y="4284360"/>
              <a:ext cx="196200" cy="291600"/>
            </a:xfrm>
            <a:custGeom>
              <a:avLst/>
              <a:gdLst/>
              <a:ahLst/>
              <a:rect l="l" t="t" r="r" b="b"/>
              <a:pathLst>
                <a:path w="245" h="253">
                  <a:moveTo>
                    <a:pt x="83" y="7"/>
                  </a:moveTo>
                  <a:lnTo>
                    <a:pt x="0" y="64"/>
                  </a:lnTo>
                  <a:lnTo>
                    <a:pt x="20" y="178"/>
                  </a:lnTo>
                  <a:lnTo>
                    <a:pt x="49" y="178"/>
                  </a:lnTo>
                  <a:lnTo>
                    <a:pt x="49" y="119"/>
                  </a:lnTo>
                  <a:lnTo>
                    <a:pt x="74" y="125"/>
                  </a:lnTo>
                  <a:lnTo>
                    <a:pt x="93" y="253"/>
                  </a:lnTo>
                  <a:lnTo>
                    <a:pt x="127" y="245"/>
                  </a:lnTo>
                  <a:lnTo>
                    <a:pt x="127" y="201"/>
                  </a:lnTo>
                  <a:lnTo>
                    <a:pt x="144" y="194"/>
                  </a:lnTo>
                  <a:lnTo>
                    <a:pt x="154" y="235"/>
                  </a:lnTo>
                  <a:lnTo>
                    <a:pt x="190" y="216"/>
                  </a:lnTo>
                  <a:lnTo>
                    <a:pt x="197" y="175"/>
                  </a:lnTo>
                  <a:lnTo>
                    <a:pt x="245" y="144"/>
                  </a:lnTo>
                  <a:lnTo>
                    <a:pt x="239" y="0"/>
                  </a:lnTo>
                  <a:lnTo>
                    <a:pt x="83" y="7"/>
                  </a:lnTo>
                  <a:lnTo>
                    <a:pt x="83" y="7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88680" y="3219840"/>
              <a:ext cx="393120" cy="1110960"/>
            </a:xfrm>
            <a:custGeom>
              <a:avLst/>
              <a:gdLst/>
              <a:ahLst/>
              <a:rect l="l" t="t" r="r" b="b"/>
              <a:pathLst>
                <a:path w="493" h="961">
                  <a:moveTo>
                    <a:pt x="78" y="0"/>
                  </a:moveTo>
                  <a:lnTo>
                    <a:pt x="0" y="377"/>
                  </a:lnTo>
                  <a:lnTo>
                    <a:pt x="312" y="504"/>
                  </a:lnTo>
                  <a:lnTo>
                    <a:pt x="306" y="961"/>
                  </a:lnTo>
                  <a:lnTo>
                    <a:pt x="383" y="961"/>
                  </a:lnTo>
                  <a:lnTo>
                    <a:pt x="493" y="443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20720" y="3147840"/>
              <a:ext cx="396360" cy="1182960"/>
            </a:xfrm>
            <a:custGeom>
              <a:avLst/>
              <a:gdLst/>
              <a:ahLst/>
              <a:rect l="l" t="t" r="r" b="b"/>
              <a:pathLst>
                <a:path w="496" h="1022">
                  <a:moveTo>
                    <a:pt x="80" y="0"/>
                  </a:moveTo>
                  <a:lnTo>
                    <a:pt x="496" y="476"/>
                  </a:lnTo>
                  <a:lnTo>
                    <a:pt x="371" y="1022"/>
                  </a:lnTo>
                  <a:lnTo>
                    <a:pt x="322" y="1012"/>
                  </a:lnTo>
                  <a:lnTo>
                    <a:pt x="362" y="651"/>
                  </a:lnTo>
                  <a:lnTo>
                    <a:pt x="386" y="662"/>
                  </a:lnTo>
                  <a:lnTo>
                    <a:pt x="403" y="514"/>
                  </a:lnTo>
                  <a:lnTo>
                    <a:pt x="228" y="404"/>
                  </a:lnTo>
                  <a:lnTo>
                    <a:pt x="280" y="341"/>
                  </a:lnTo>
                  <a:lnTo>
                    <a:pt x="0" y="134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88680" y="3555000"/>
              <a:ext cx="287640" cy="779760"/>
            </a:xfrm>
            <a:custGeom>
              <a:avLst/>
              <a:gdLst/>
              <a:ahLst/>
              <a:rect l="l" t="t" r="r" b="b"/>
              <a:pathLst>
                <a:path w="362" h="673">
                  <a:moveTo>
                    <a:pt x="0" y="0"/>
                  </a:moveTo>
                  <a:lnTo>
                    <a:pt x="362" y="175"/>
                  </a:lnTo>
                  <a:lnTo>
                    <a:pt x="322" y="673"/>
                  </a:lnTo>
                  <a:lnTo>
                    <a:pt x="272" y="660"/>
                  </a:lnTo>
                  <a:lnTo>
                    <a:pt x="255" y="284"/>
                  </a:lnTo>
                  <a:lnTo>
                    <a:pt x="0" y="1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69600" y="3666600"/>
              <a:ext cx="268560" cy="652320"/>
            </a:xfrm>
            <a:custGeom>
              <a:avLst/>
              <a:gdLst/>
              <a:ahLst/>
              <a:rect l="l" t="t" r="r" b="b"/>
              <a:pathLst>
                <a:path w="334" h="565">
                  <a:moveTo>
                    <a:pt x="0" y="71"/>
                  </a:moveTo>
                  <a:lnTo>
                    <a:pt x="3" y="71"/>
                  </a:lnTo>
                  <a:lnTo>
                    <a:pt x="13" y="73"/>
                  </a:lnTo>
                  <a:lnTo>
                    <a:pt x="30" y="74"/>
                  </a:lnTo>
                  <a:lnTo>
                    <a:pt x="55" y="82"/>
                  </a:lnTo>
                  <a:lnTo>
                    <a:pt x="79" y="90"/>
                  </a:lnTo>
                  <a:lnTo>
                    <a:pt x="110" y="103"/>
                  </a:lnTo>
                  <a:lnTo>
                    <a:pt x="138" y="120"/>
                  </a:lnTo>
                  <a:lnTo>
                    <a:pt x="169" y="143"/>
                  </a:lnTo>
                  <a:lnTo>
                    <a:pt x="194" y="170"/>
                  </a:lnTo>
                  <a:lnTo>
                    <a:pt x="222" y="202"/>
                  </a:lnTo>
                  <a:lnTo>
                    <a:pt x="243" y="242"/>
                  </a:lnTo>
                  <a:lnTo>
                    <a:pt x="260" y="289"/>
                  </a:lnTo>
                  <a:lnTo>
                    <a:pt x="270" y="343"/>
                  </a:lnTo>
                  <a:lnTo>
                    <a:pt x="275" y="405"/>
                  </a:lnTo>
                  <a:lnTo>
                    <a:pt x="270" y="478"/>
                  </a:lnTo>
                  <a:lnTo>
                    <a:pt x="256" y="561"/>
                  </a:lnTo>
                  <a:lnTo>
                    <a:pt x="302" y="565"/>
                  </a:lnTo>
                  <a:lnTo>
                    <a:pt x="334" y="386"/>
                  </a:lnTo>
                  <a:lnTo>
                    <a:pt x="306" y="301"/>
                  </a:lnTo>
                  <a:lnTo>
                    <a:pt x="334" y="137"/>
                  </a:lnTo>
                  <a:lnTo>
                    <a:pt x="0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40000" y="3092400"/>
              <a:ext cx="241200" cy="870120"/>
            </a:xfrm>
            <a:custGeom>
              <a:avLst/>
              <a:gdLst/>
              <a:ahLst/>
              <a:rect l="l" t="t" r="r" b="b"/>
              <a:pathLst>
                <a:path w="302" h="753">
                  <a:moveTo>
                    <a:pt x="116" y="0"/>
                  </a:moveTo>
                  <a:lnTo>
                    <a:pt x="302" y="49"/>
                  </a:lnTo>
                  <a:lnTo>
                    <a:pt x="245" y="369"/>
                  </a:lnTo>
                  <a:lnTo>
                    <a:pt x="198" y="591"/>
                  </a:lnTo>
                  <a:lnTo>
                    <a:pt x="179" y="753"/>
                  </a:lnTo>
                  <a:lnTo>
                    <a:pt x="0" y="751"/>
                  </a:lnTo>
                  <a:lnTo>
                    <a:pt x="50" y="221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19320" y="3087360"/>
              <a:ext cx="338760" cy="874800"/>
            </a:xfrm>
            <a:custGeom>
              <a:avLst/>
              <a:gdLst/>
              <a:ahLst/>
              <a:rect l="l" t="t" r="r" b="b"/>
              <a:pathLst>
                <a:path w="423" h="757">
                  <a:moveTo>
                    <a:pt x="49" y="0"/>
                  </a:moveTo>
                  <a:lnTo>
                    <a:pt x="391" y="12"/>
                  </a:lnTo>
                  <a:lnTo>
                    <a:pt x="384" y="285"/>
                  </a:lnTo>
                  <a:lnTo>
                    <a:pt x="340" y="310"/>
                  </a:lnTo>
                  <a:lnTo>
                    <a:pt x="423" y="500"/>
                  </a:lnTo>
                  <a:lnTo>
                    <a:pt x="365" y="757"/>
                  </a:lnTo>
                  <a:lnTo>
                    <a:pt x="249" y="757"/>
                  </a:lnTo>
                  <a:lnTo>
                    <a:pt x="0" y="18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78560" y="3099600"/>
              <a:ext cx="372600" cy="870120"/>
            </a:xfrm>
            <a:custGeom>
              <a:avLst/>
              <a:gdLst/>
              <a:ahLst/>
              <a:rect l="l" t="t" r="r" b="b"/>
              <a:pathLst>
                <a:path w="465" h="751">
                  <a:moveTo>
                    <a:pt x="40" y="0"/>
                  </a:moveTo>
                  <a:lnTo>
                    <a:pt x="218" y="0"/>
                  </a:lnTo>
                  <a:lnTo>
                    <a:pt x="325" y="378"/>
                  </a:lnTo>
                  <a:lnTo>
                    <a:pt x="450" y="530"/>
                  </a:lnTo>
                  <a:lnTo>
                    <a:pt x="465" y="751"/>
                  </a:lnTo>
                  <a:lnTo>
                    <a:pt x="233" y="745"/>
                  </a:lnTo>
                  <a:lnTo>
                    <a:pt x="0" y="125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92160" y="3099600"/>
              <a:ext cx="346680" cy="862560"/>
            </a:xfrm>
            <a:custGeom>
              <a:avLst/>
              <a:gdLst/>
              <a:ahLst/>
              <a:rect l="l" t="t" r="r" b="b"/>
              <a:pathLst>
                <a:path w="434" h="745">
                  <a:moveTo>
                    <a:pt x="0" y="19"/>
                  </a:moveTo>
                  <a:lnTo>
                    <a:pt x="152" y="0"/>
                  </a:lnTo>
                  <a:lnTo>
                    <a:pt x="238" y="330"/>
                  </a:lnTo>
                  <a:lnTo>
                    <a:pt x="318" y="338"/>
                  </a:lnTo>
                  <a:lnTo>
                    <a:pt x="434" y="745"/>
                  </a:lnTo>
                  <a:lnTo>
                    <a:pt x="29" y="745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87520" y="3699000"/>
              <a:ext cx="700200" cy="795960"/>
            </a:xfrm>
            <a:custGeom>
              <a:avLst/>
              <a:gdLst/>
              <a:ahLst/>
              <a:rect l="l" t="t" r="r" b="b"/>
              <a:pathLst>
                <a:path w="874" h="688">
                  <a:moveTo>
                    <a:pt x="0" y="137"/>
                  </a:moveTo>
                  <a:lnTo>
                    <a:pt x="749" y="0"/>
                  </a:lnTo>
                  <a:lnTo>
                    <a:pt x="785" y="42"/>
                  </a:lnTo>
                  <a:lnTo>
                    <a:pt x="834" y="13"/>
                  </a:lnTo>
                  <a:lnTo>
                    <a:pt x="874" y="555"/>
                  </a:lnTo>
                  <a:lnTo>
                    <a:pt x="110" y="688"/>
                  </a:lnTo>
                  <a:lnTo>
                    <a:pt x="0" y="646"/>
                  </a:lnTo>
                  <a:lnTo>
                    <a:pt x="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cb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84640" y="4237920"/>
              <a:ext cx="684000" cy="257040"/>
            </a:xfrm>
            <a:custGeom>
              <a:avLst/>
              <a:gdLst/>
              <a:ahLst/>
              <a:rect l="l" t="t" r="r" b="b"/>
              <a:pathLst>
                <a:path w="855" h="222">
                  <a:moveTo>
                    <a:pt x="0" y="180"/>
                  </a:moveTo>
                  <a:lnTo>
                    <a:pt x="557" y="80"/>
                  </a:lnTo>
                  <a:lnTo>
                    <a:pt x="576" y="0"/>
                  </a:lnTo>
                  <a:lnTo>
                    <a:pt x="658" y="43"/>
                  </a:lnTo>
                  <a:lnTo>
                    <a:pt x="743" y="28"/>
                  </a:lnTo>
                  <a:lnTo>
                    <a:pt x="855" y="99"/>
                  </a:lnTo>
                  <a:lnTo>
                    <a:pt x="114" y="222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757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17280" y="4208040"/>
              <a:ext cx="226800" cy="237960"/>
            </a:xfrm>
            <a:custGeom>
              <a:avLst/>
              <a:gdLst/>
              <a:ahLst/>
              <a:rect l="l" t="t" r="r" b="b"/>
              <a:pathLst>
                <a:path w="285" h="205">
                  <a:moveTo>
                    <a:pt x="95" y="28"/>
                  </a:moveTo>
                  <a:lnTo>
                    <a:pt x="185" y="0"/>
                  </a:lnTo>
                  <a:lnTo>
                    <a:pt x="247" y="57"/>
                  </a:lnTo>
                  <a:lnTo>
                    <a:pt x="234" y="80"/>
                  </a:lnTo>
                  <a:lnTo>
                    <a:pt x="192" y="53"/>
                  </a:lnTo>
                  <a:lnTo>
                    <a:pt x="169" y="65"/>
                  </a:lnTo>
                  <a:lnTo>
                    <a:pt x="285" y="150"/>
                  </a:lnTo>
                  <a:lnTo>
                    <a:pt x="263" y="184"/>
                  </a:lnTo>
                  <a:lnTo>
                    <a:pt x="215" y="139"/>
                  </a:lnTo>
                  <a:lnTo>
                    <a:pt x="192" y="150"/>
                  </a:lnTo>
                  <a:lnTo>
                    <a:pt x="238" y="196"/>
                  </a:lnTo>
                  <a:lnTo>
                    <a:pt x="196" y="205"/>
                  </a:lnTo>
                  <a:lnTo>
                    <a:pt x="162" y="177"/>
                  </a:lnTo>
                  <a:lnTo>
                    <a:pt x="111" y="194"/>
                  </a:lnTo>
                  <a:lnTo>
                    <a:pt x="0" y="124"/>
                  </a:lnTo>
                  <a:lnTo>
                    <a:pt x="95" y="28"/>
                  </a:lnTo>
                  <a:lnTo>
                    <a:pt x="95" y="28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3240" y="3523320"/>
              <a:ext cx="290880" cy="719280"/>
            </a:xfrm>
            <a:custGeom>
              <a:avLst/>
              <a:gdLst/>
              <a:ahLst/>
              <a:rect l="l" t="t" r="r" b="b"/>
              <a:pathLst>
                <a:path w="363" h="621">
                  <a:moveTo>
                    <a:pt x="363" y="0"/>
                  </a:moveTo>
                  <a:lnTo>
                    <a:pt x="321" y="171"/>
                  </a:lnTo>
                  <a:lnTo>
                    <a:pt x="124" y="230"/>
                  </a:lnTo>
                  <a:lnTo>
                    <a:pt x="240" y="621"/>
                  </a:lnTo>
                  <a:lnTo>
                    <a:pt x="25" y="564"/>
                  </a:lnTo>
                  <a:lnTo>
                    <a:pt x="0" y="66"/>
                  </a:lnTo>
                  <a:lnTo>
                    <a:pt x="363" y="0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98400" y="3254400"/>
              <a:ext cx="405720" cy="1052640"/>
            </a:xfrm>
            <a:custGeom>
              <a:avLst/>
              <a:gdLst/>
              <a:ahLst/>
              <a:rect l="l" t="t" r="r" b="b"/>
              <a:pathLst>
                <a:path w="507" h="911">
                  <a:moveTo>
                    <a:pt x="496" y="42"/>
                  </a:moveTo>
                  <a:lnTo>
                    <a:pt x="507" y="232"/>
                  </a:lnTo>
                  <a:lnTo>
                    <a:pt x="182" y="353"/>
                  </a:lnTo>
                  <a:lnTo>
                    <a:pt x="249" y="688"/>
                  </a:lnTo>
                  <a:lnTo>
                    <a:pt x="384" y="867"/>
                  </a:lnTo>
                  <a:lnTo>
                    <a:pt x="357" y="911"/>
                  </a:lnTo>
                  <a:lnTo>
                    <a:pt x="49" y="760"/>
                  </a:lnTo>
                  <a:lnTo>
                    <a:pt x="0" y="384"/>
                  </a:lnTo>
                  <a:lnTo>
                    <a:pt x="226" y="0"/>
                  </a:lnTo>
                  <a:lnTo>
                    <a:pt x="496" y="42"/>
                  </a:lnTo>
                  <a:lnTo>
                    <a:pt x="496" y="42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47280" y="3180600"/>
              <a:ext cx="447120" cy="1154520"/>
            </a:xfrm>
            <a:custGeom>
              <a:avLst/>
              <a:gdLst/>
              <a:ahLst/>
              <a:rect l="l" t="t" r="r" b="b"/>
              <a:pathLst>
                <a:path w="559" h="996">
                  <a:moveTo>
                    <a:pt x="528" y="0"/>
                  </a:moveTo>
                  <a:lnTo>
                    <a:pt x="559" y="108"/>
                  </a:lnTo>
                  <a:lnTo>
                    <a:pt x="293" y="205"/>
                  </a:lnTo>
                  <a:lnTo>
                    <a:pt x="118" y="489"/>
                  </a:lnTo>
                  <a:lnTo>
                    <a:pt x="207" y="489"/>
                  </a:lnTo>
                  <a:lnTo>
                    <a:pt x="264" y="837"/>
                  </a:lnTo>
                  <a:lnTo>
                    <a:pt x="327" y="808"/>
                  </a:lnTo>
                  <a:lnTo>
                    <a:pt x="420" y="974"/>
                  </a:lnTo>
                  <a:lnTo>
                    <a:pt x="393" y="996"/>
                  </a:lnTo>
                  <a:lnTo>
                    <a:pt x="190" y="926"/>
                  </a:lnTo>
                  <a:lnTo>
                    <a:pt x="0" y="673"/>
                  </a:lnTo>
                  <a:lnTo>
                    <a:pt x="26" y="299"/>
                  </a:lnTo>
                  <a:lnTo>
                    <a:pt x="315" y="15"/>
                  </a:lnTo>
                  <a:lnTo>
                    <a:pt x="528" y="0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5480" y="3219840"/>
              <a:ext cx="138600" cy="775080"/>
            </a:xfrm>
            <a:custGeom>
              <a:avLst/>
              <a:gdLst/>
              <a:ahLst/>
              <a:rect l="l" t="t" r="r" b="b"/>
              <a:pathLst>
                <a:path w="175" h="672">
                  <a:moveTo>
                    <a:pt x="0" y="105"/>
                  </a:moveTo>
                  <a:lnTo>
                    <a:pt x="42" y="158"/>
                  </a:lnTo>
                  <a:lnTo>
                    <a:pt x="19" y="599"/>
                  </a:lnTo>
                  <a:lnTo>
                    <a:pt x="122" y="672"/>
                  </a:lnTo>
                  <a:lnTo>
                    <a:pt x="175" y="582"/>
                  </a:lnTo>
                  <a:lnTo>
                    <a:pt x="93" y="154"/>
                  </a:lnTo>
                  <a:lnTo>
                    <a:pt x="135" y="88"/>
                  </a:lnTo>
                  <a:lnTo>
                    <a:pt x="45" y="0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57040" y="3048840"/>
              <a:ext cx="303480" cy="379440"/>
            </a:xfrm>
            <a:custGeom>
              <a:avLst/>
              <a:gdLst/>
              <a:ahLst/>
              <a:rect l="l" t="t" r="r" b="b"/>
              <a:pathLst>
                <a:path w="380" h="329">
                  <a:moveTo>
                    <a:pt x="0" y="38"/>
                  </a:moveTo>
                  <a:lnTo>
                    <a:pt x="55" y="295"/>
                  </a:lnTo>
                  <a:lnTo>
                    <a:pt x="205" y="202"/>
                  </a:lnTo>
                  <a:lnTo>
                    <a:pt x="332" y="329"/>
                  </a:lnTo>
                  <a:lnTo>
                    <a:pt x="380" y="65"/>
                  </a:lnTo>
                  <a:lnTo>
                    <a:pt x="342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17080" y="2752200"/>
              <a:ext cx="322920" cy="511560"/>
            </a:xfrm>
            <a:custGeom>
              <a:avLst/>
              <a:gdLst/>
              <a:ahLst/>
              <a:rect l="l" t="t" r="r" b="b"/>
              <a:pathLst>
                <a:path w="403" h="441">
                  <a:moveTo>
                    <a:pt x="263" y="10"/>
                  </a:moveTo>
                  <a:lnTo>
                    <a:pt x="264" y="12"/>
                  </a:lnTo>
                  <a:lnTo>
                    <a:pt x="274" y="19"/>
                  </a:lnTo>
                  <a:lnTo>
                    <a:pt x="285" y="29"/>
                  </a:lnTo>
                  <a:lnTo>
                    <a:pt x="302" y="44"/>
                  </a:lnTo>
                  <a:lnTo>
                    <a:pt x="310" y="52"/>
                  </a:lnTo>
                  <a:lnTo>
                    <a:pt x="320" y="61"/>
                  </a:lnTo>
                  <a:lnTo>
                    <a:pt x="329" y="69"/>
                  </a:lnTo>
                  <a:lnTo>
                    <a:pt x="339" y="80"/>
                  </a:lnTo>
                  <a:lnTo>
                    <a:pt x="348" y="90"/>
                  </a:lnTo>
                  <a:lnTo>
                    <a:pt x="359" y="101"/>
                  </a:lnTo>
                  <a:lnTo>
                    <a:pt x="369" y="110"/>
                  </a:lnTo>
                  <a:lnTo>
                    <a:pt x="380" y="122"/>
                  </a:lnTo>
                  <a:lnTo>
                    <a:pt x="344" y="143"/>
                  </a:lnTo>
                  <a:lnTo>
                    <a:pt x="403" y="270"/>
                  </a:lnTo>
                  <a:lnTo>
                    <a:pt x="339" y="434"/>
                  </a:lnTo>
                  <a:lnTo>
                    <a:pt x="186" y="441"/>
                  </a:lnTo>
                  <a:lnTo>
                    <a:pt x="38" y="270"/>
                  </a:lnTo>
                  <a:lnTo>
                    <a:pt x="0" y="118"/>
                  </a:lnTo>
                  <a:lnTo>
                    <a:pt x="162" y="0"/>
                  </a:lnTo>
                  <a:lnTo>
                    <a:pt x="263" y="10"/>
                  </a:lnTo>
                  <a:lnTo>
                    <a:pt x="263" y="10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57840" y="2832840"/>
              <a:ext cx="145080" cy="87840"/>
            </a:xfrm>
            <a:custGeom>
              <a:avLst/>
              <a:gdLst/>
              <a:ahLst/>
              <a:rect l="l" t="t" r="r" b="b"/>
              <a:pathLst>
                <a:path w="181" h="76">
                  <a:moveTo>
                    <a:pt x="152" y="0"/>
                  </a:moveTo>
                  <a:lnTo>
                    <a:pt x="0" y="28"/>
                  </a:lnTo>
                  <a:lnTo>
                    <a:pt x="13" y="76"/>
                  </a:lnTo>
                  <a:lnTo>
                    <a:pt x="181" y="28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eb9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96640" y="2939400"/>
              <a:ext cx="243000" cy="324360"/>
            </a:xfrm>
            <a:custGeom>
              <a:avLst/>
              <a:gdLst/>
              <a:ahLst/>
              <a:rect l="l" t="t" r="r" b="b"/>
              <a:pathLst>
                <a:path w="302" h="279">
                  <a:moveTo>
                    <a:pt x="0" y="0"/>
                  </a:moveTo>
                  <a:lnTo>
                    <a:pt x="97" y="49"/>
                  </a:lnTo>
                  <a:lnTo>
                    <a:pt x="116" y="131"/>
                  </a:lnTo>
                  <a:lnTo>
                    <a:pt x="302" y="112"/>
                  </a:lnTo>
                  <a:lnTo>
                    <a:pt x="291" y="139"/>
                  </a:lnTo>
                  <a:lnTo>
                    <a:pt x="104" y="179"/>
                  </a:lnTo>
                  <a:lnTo>
                    <a:pt x="167" y="272"/>
                  </a:lnTo>
                  <a:lnTo>
                    <a:pt x="123" y="279"/>
                  </a:lnTo>
                  <a:lnTo>
                    <a:pt x="11" y="1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9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12000" y="3122640"/>
              <a:ext cx="451800" cy="1256400"/>
            </a:xfrm>
            <a:custGeom>
              <a:avLst/>
              <a:gdLst/>
              <a:ahLst/>
              <a:rect l="l" t="t" r="r" b="b"/>
              <a:pathLst>
                <a:path w="567" h="1085">
                  <a:moveTo>
                    <a:pt x="481" y="0"/>
                  </a:moveTo>
                  <a:lnTo>
                    <a:pt x="474" y="0"/>
                  </a:lnTo>
                  <a:lnTo>
                    <a:pt x="460" y="5"/>
                  </a:lnTo>
                  <a:lnTo>
                    <a:pt x="435" y="13"/>
                  </a:lnTo>
                  <a:lnTo>
                    <a:pt x="405" y="26"/>
                  </a:lnTo>
                  <a:lnTo>
                    <a:pt x="369" y="41"/>
                  </a:lnTo>
                  <a:lnTo>
                    <a:pt x="329" y="64"/>
                  </a:lnTo>
                  <a:lnTo>
                    <a:pt x="285" y="91"/>
                  </a:lnTo>
                  <a:lnTo>
                    <a:pt x="242" y="123"/>
                  </a:lnTo>
                  <a:lnTo>
                    <a:pt x="196" y="157"/>
                  </a:lnTo>
                  <a:lnTo>
                    <a:pt x="152" y="199"/>
                  </a:lnTo>
                  <a:lnTo>
                    <a:pt x="110" y="247"/>
                  </a:lnTo>
                  <a:lnTo>
                    <a:pt x="76" y="300"/>
                  </a:lnTo>
                  <a:lnTo>
                    <a:pt x="46" y="361"/>
                  </a:lnTo>
                  <a:lnTo>
                    <a:pt x="21" y="426"/>
                  </a:lnTo>
                  <a:lnTo>
                    <a:pt x="6" y="500"/>
                  </a:lnTo>
                  <a:lnTo>
                    <a:pt x="0" y="580"/>
                  </a:lnTo>
                  <a:lnTo>
                    <a:pt x="2" y="658"/>
                  </a:lnTo>
                  <a:lnTo>
                    <a:pt x="15" y="728"/>
                  </a:lnTo>
                  <a:lnTo>
                    <a:pt x="34" y="791"/>
                  </a:lnTo>
                  <a:lnTo>
                    <a:pt x="63" y="846"/>
                  </a:lnTo>
                  <a:lnTo>
                    <a:pt x="93" y="891"/>
                  </a:lnTo>
                  <a:lnTo>
                    <a:pt x="131" y="933"/>
                  </a:lnTo>
                  <a:lnTo>
                    <a:pt x="167" y="967"/>
                  </a:lnTo>
                  <a:lnTo>
                    <a:pt x="209" y="998"/>
                  </a:lnTo>
                  <a:lnTo>
                    <a:pt x="247" y="1021"/>
                  </a:lnTo>
                  <a:lnTo>
                    <a:pt x="285" y="1040"/>
                  </a:lnTo>
                  <a:lnTo>
                    <a:pt x="321" y="1055"/>
                  </a:lnTo>
                  <a:lnTo>
                    <a:pt x="356" y="1066"/>
                  </a:lnTo>
                  <a:lnTo>
                    <a:pt x="382" y="1074"/>
                  </a:lnTo>
                  <a:lnTo>
                    <a:pt x="403" y="1080"/>
                  </a:lnTo>
                  <a:lnTo>
                    <a:pt x="418" y="1083"/>
                  </a:lnTo>
                  <a:lnTo>
                    <a:pt x="424" y="1085"/>
                  </a:lnTo>
                  <a:lnTo>
                    <a:pt x="439" y="1044"/>
                  </a:lnTo>
                  <a:lnTo>
                    <a:pt x="339" y="918"/>
                  </a:lnTo>
                  <a:lnTo>
                    <a:pt x="302" y="967"/>
                  </a:lnTo>
                  <a:lnTo>
                    <a:pt x="72" y="707"/>
                  </a:lnTo>
                  <a:lnTo>
                    <a:pt x="105" y="369"/>
                  </a:lnTo>
                  <a:lnTo>
                    <a:pt x="173" y="389"/>
                  </a:lnTo>
                  <a:lnTo>
                    <a:pt x="361" y="93"/>
                  </a:lnTo>
                  <a:lnTo>
                    <a:pt x="415" y="137"/>
                  </a:lnTo>
                  <a:lnTo>
                    <a:pt x="567" y="51"/>
                  </a:lnTo>
                  <a:lnTo>
                    <a:pt x="481" y="0"/>
                  </a:lnTo>
                  <a:lnTo>
                    <a:pt x="481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90520" y="3699000"/>
              <a:ext cx="55800" cy="594360"/>
            </a:xfrm>
            <a:custGeom>
              <a:avLst/>
              <a:gdLst/>
              <a:ahLst/>
              <a:rect l="l" t="t" r="r" b="b"/>
              <a:pathLst>
                <a:path w="71" h="513">
                  <a:moveTo>
                    <a:pt x="0" y="0"/>
                  </a:moveTo>
                  <a:lnTo>
                    <a:pt x="14" y="479"/>
                  </a:lnTo>
                  <a:lnTo>
                    <a:pt x="71" y="513"/>
                  </a:lnTo>
                  <a:lnTo>
                    <a:pt x="57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19920" y="2802960"/>
              <a:ext cx="1720080" cy="104400"/>
            </a:xfrm>
            <a:custGeom>
              <a:avLst/>
              <a:gdLst/>
              <a:ahLst/>
              <a:rect l="l" t="t" r="r" b="b"/>
              <a:pathLst>
                <a:path w="2152" h="89">
                  <a:moveTo>
                    <a:pt x="0" y="89"/>
                  </a:moveTo>
                  <a:lnTo>
                    <a:pt x="2152" y="89"/>
                  </a:lnTo>
                  <a:lnTo>
                    <a:pt x="2152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gradFill rotWithShape="0">
              <a:gsLst>
                <a:gs pos="0">
                  <a:srgbClr val="583daf"/>
                </a:gs>
                <a:gs pos="100000">
                  <a:srgbClr val="eb2f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19520" y="2844360"/>
              <a:ext cx="376920" cy="113760"/>
            </a:xfrm>
            <a:custGeom>
              <a:avLst/>
              <a:gdLst/>
              <a:ahLst/>
              <a:rect l="l" t="t" r="r" b="b"/>
              <a:pathLst>
                <a:path w="471" h="97">
                  <a:moveTo>
                    <a:pt x="0" y="97"/>
                  </a:moveTo>
                  <a:lnTo>
                    <a:pt x="471" y="97"/>
                  </a:lnTo>
                  <a:lnTo>
                    <a:pt x="471" y="0"/>
                  </a:lnTo>
                  <a:lnTo>
                    <a:pt x="0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48760" y="3599280"/>
              <a:ext cx="393120" cy="293760"/>
            </a:xfrm>
            <a:custGeom>
              <a:avLst/>
              <a:gdLst/>
              <a:ahLst/>
              <a:rect l="l" t="t" r="r" b="b"/>
              <a:pathLst>
                <a:path w="492" h="253">
                  <a:moveTo>
                    <a:pt x="30" y="253"/>
                  </a:moveTo>
                  <a:lnTo>
                    <a:pt x="492" y="93"/>
                  </a:lnTo>
                  <a:lnTo>
                    <a:pt x="461" y="0"/>
                  </a:lnTo>
                  <a:lnTo>
                    <a:pt x="0" y="160"/>
                  </a:lnTo>
                  <a:lnTo>
                    <a:pt x="30" y="253"/>
                  </a:lnTo>
                  <a:lnTo>
                    <a:pt x="30" y="253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74720" y="3318840"/>
              <a:ext cx="397800" cy="296280"/>
            </a:xfrm>
            <a:custGeom>
              <a:avLst/>
              <a:gdLst/>
              <a:ahLst/>
              <a:rect l="l" t="t" r="r" b="b"/>
              <a:pathLst>
                <a:path w="498" h="255">
                  <a:moveTo>
                    <a:pt x="33" y="255"/>
                  </a:moveTo>
                  <a:lnTo>
                    <a:pt x="498" y="93"/>
                  </a:lnTo>
                  <a:lnTo>
                    <a:pt x="468" y="0"/>
                  </a:lnTo>
                  <a:lnTo>
                    <a:pt x="0" y="163"/>
                  </a:lnTo>
                  <a:lnTo>
                    <a:pt x="33" y="255"/>
                  </a:lnTo>
                  <a:lnTo>
                    <a:pt x="33" y="255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32720" y="3002040"/>
              <a:ext cx="397800" cy="293760"/>
            </a:xfrm>
            <a:custGeom>
              <a:avLst/>
              <a:gdLst/>
              <a:ahLst/>
              <a:rect l="l" t="t" r="r" b="b"/>
              <a:pathLst>
                <a:path w="498" h="255">
                  <a:moveTo>
                    <a:pt x="32" y="255"/>
                  </a:moveTo>
                  <a:lnTo>
                    <a:pt x="498" y="93"/>
                  </a:lnTo>
                  <a:lnTo>
                    <a:pt x="466" y="0"/>
                  </a:lnTo>
                  <a:lnTo>
                    <a:pt x="0" y="160"/>
                  </a:lnTo>
                  <a:lnTo>
                    <a:pt x="32" y="255"/>
                  </a:lnTo>
                  <a:lnTo>
                    <a:pt x="32" y="255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62160" y="1752480"/>
              <a:ext cx="391320" cy="335160"/>
            </a:xfrm>
            <a:custGeom>
              <a:avLst/>
              <a:gdLst/>
              <a:ahLst/>
              <a:rect l="l" t="t" r="r" b="b"/>
              <a:pathLst>
                <a:path w="491" h="291">
                  <a:moveTo>
                    <a:pt x="0" y="89"/>
                  </a:moveTo>
                  <a:lnTo>
                    <a:pt x="453" y="291"/>
                  </a:lnTo>
                  <a:lnTo>
                    <a:pt x="491" y="198"/>
                  </a:lnTo>
                  <a:lnTo>
                    <a:pt x="38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53200" y="2073960"/>
              <a:ext cx="338760" cy="298440"/>
            </a:xfrm>
            <a:custGeom>
              <a:avLst/>
              <a:gdLst/>
              <a:ahLst/>
              <a:rect l="l" t="t" r="r" b="b"/>
              <a:pathLst>
                <a:path w="424" h="256">
                  <a:moveTo>
                    <a:pt x="0" y="89"/>
                  </a:moveTo>
                  <a:lnTo>
                    <a:pt x="384" y="256"/>
                  </a:lnTo>
                  <a:lnTo>
                    <a:pt x="424" y="167"/>
                  </a:lnTo>
                  <a:lnTo>
                    <a:pt x="53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08960" y="2372760"/>
              <a:ext cx="389520" cy="335160"/>
            </a:xfrm>
            <a:custGeom>
              <a:avLst/>
              <a:gdLst/>
              <a:ahLst/>
              <a:rect l="l" t="t" r="r" b="b"/>
              <a:pathLst>
                <a:path w="489" h="291">
                  <a:moveTo>
                    <a:pt x="0" y="90"/>
                  </a:moveTo>
                  <a:lnTo>
                    <a:pt x="451" y="291"/>
                  </a:lnTo>
                  <a:lnTo>
                    <a:pt x="489" y="198"/>
                  </a:lnTo>
                  <a:lnTo>
                    <a:pt x="44" y="0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75360" y="2844360"/>
              <a:ext cx="394560" cy="113760"/>
            </a:xfrm>
            <a:custGeom>
              <a:avLst/>
              <a:gdLst/>
              <a:ahLst/>
              <a:rect l="l" t="t" r="r" b="b"/>
              <a:pathLst>
                <a:path w="494" h="97">
                  <a:moveTo>
                    <a:pt x="0" y="97"/>
                  </a:moveTo>
                  <a:lnTo>
                    <a:pt x="494" y="97"/>
                  </a:lnTo>
                  <a:lnTo>
                    <a:pt x="494" y="0"/>
                  </a:lnTo>
                  <a:lnTo>
                    <a:pt x="0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44880" y="2844360"/>
              <a:ext cx="389880" cy="113760"/>
            </a:xfrm>
            <a:custGeom>
              <a:avLst/>
              <a:gdLst/>
              <a:ahLst/>
              <a:rect l="l" t="t" r="r" b="b"/>
              <a:pathLst>
                <a:path w="486" h="97">
                  <a:moveTo>
                    <a:pt x="0" y="97"/>
                  </a:moveTo>
                  <a:lnTo>
                    <a:pt x="486" y="97"/>
                  </a:lnTo>
                  <a:lnTo>
                    <a:pt x="486" y="0"/>
                  </a:lnTo>
                  <a:lnTo>
                    <a:pt x="0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99440" y="2694240"/>
              <a:ext cx="247320" cy="392760"/>
            </a:xfrm>
            <a:custGeom>
              <a:avLst/>
              <a:gdLst/>
              <a:ahLst/>
              <a:rect l="l" t="t" r="r" b="b"/>
              <a:pathLst>
                <a:path w="310" h="338">
                  <a:moveTo>
                    <a:pt x="310" y="55"/>
                  </a:moveTo>
                  <a:lnTo>
                    <a:pt x="124" y="129"/>
                  </a:lnTo>
                  <a:lnTo>
                    <a:pt x="124" y="211"/>
                  </a:lnTo>
                  <a:lnTo>
                    <a:pt x="65" y="196"/>
                  </a:lnTo>
                  <a:lnTo>
                    <a:pt x="61" y="198"/>
                  </a:lnTo>
                  <a:lnTo>
                    <a:pt x="57" y="205"/>
                  </a:lnTo>
                  <a:lnTo>
                    <a:pt x="54" y="218"/>
                  </a:lnTo>
                  <a:lnTo>
                    <a:pt x="52" y="234"/>
                  </a:lnTo>
                  <a:lnTo>
                    <a:pt x="52" y="249"/>
                  </a:lnTo>
                  <a:lnTo>
                    <a:pt x="57" y="264"/>
                  </a:lnTo>
                  <a:lnTo>
                    <a:pt x="63" y="272"/>
                  </a:lnTo>
                  <a:lnTo>
                    <a:pt x="69" y="279"/>
                  </a:lnTo>
                  <a:lnTo>
                    <a:pt x="80" y="283"/>
                  </a:lnTo>
                  <a:lnTo>
                    <a:pt x="92" y="291"/>
                  </a:lnTo>
                  <a:lnTo>
                    <a:pt x="73" y="338"/>
                  </a:lnTo>
                  <a:lnTo>
                    <a:pt x="69" y="334"/>
                  </a:lnTo>
                  <a:lnTo>
                    <a:pt x="57" y="327"/>
                  </a:lnTo>
                  <a:lnTo>
                    <a:pt x="48" y="319"/>
                  </a:lnTo>
                  <a:lnTo>
                    <a:pt x="44" y="310"/>
                  </a:lnTo>
                  <a:lnTo>
                    <a:pt x="35" y="300"/>
                  </a:lnTo>
                  <a:lnTo>
                    <a:pt x="29" y="291"/>
                  </a:lnTo>
                  <a:lnTo>
                    <a:pt x="21" y="277"/>
                  </a:lnTo>
                  <a:lnTo>
                    <a:pt x="14" y="262"/>
                  </a:lnTo>
                  <a:lnTo>
                    <a:pt x="8" y="245"/>
                  </a:lnTo>
                  <a:lnTo>
                    <a:pt x="4" y="228"/>
                  </a:lnTo>
                  <a:lnTo>
                    <a:pt x="0" y="205"/>
                  </a:lnTo>
                  <a:lnTo>
                    <a:pt x="0" y="184"/>
                  </a:lnTo>
                  <a:lnTo>
                    <a:pt x="2" y="159"/>
                  </a:lnTo>
                  <a:lnTo>
                    <a:pt x="6" y="135"/>
                  </a:lnTo>
                  <a:lnTo>
                    <a:pt x="247" y="0"/>
                  </a:lnTo>
                  <a:lnTo>
                    <a:pt x="310" y="55"/>
                  </a:lnTo>
                  <a:lnTo>
                    <a:pt x="310" y="55"/>
                  </a:lnTo>
                  <a:close/>
                </a:path>
              </a:pathLst>
            </a:custGeom>
            <a:solidFill>
              <a:srgbClr val="b3b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28600" y="3886200"/>
            <a:ext cx="2743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cit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95520" y="2133720"/>
            <a:ext cx="1600560" cy="1371240"/>
            <a:chOff x="6095520" y="2133720"/>
            <a:chExt cx="1600560" cy="1371240"/>
          </a:xfrm>
        </p:grpSpPr>
        <p:sp>
          <p:nvSpPr>
            <p:cNvPr id="137" name=""/>
            <p:cNvSpPr/>
            <p:nvPr/>
          </p:nvSpPr>
          <p:spPr>
            <a:xfrm>
              <a:off x="6223680" y="2133720"/>
              <a:ext cx="1472400" cy="661320"/>
            </a:xfrm>
            <a:custGeom>
              <a:avLst/>
              <a:gdLst>
                <a:gd name="textAreaLeft" fmla="*/ 257400 w 1472400"/>
                <a:gd name="textAreaRight" fmla="*/ 1067400 w 1472400"/>
                <a:gd name="textAreaTop" fmla="*/ 88560 h 661320"/>
                <a:gd name="textAreaBottom" fmla="*/ 572760 h 66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6095160" y="2843280"/>
              <a:ext cx="1472040" cy="661320"/>
            </a:xfrm>
            <a:custGeom>
              <a:avLst/>
              <a:gdLst>
                <a:gd name="textAreaLeft" fmla="*/ 257040 w 1472040"/>
                <a:gd name="textAreaRight" fmla="*/ 1067040 w 1472040"/>
                <a:gd name="textAreaTop" fmla="*/ 88560 h 661320"/>
                <a:gd name="textAreaBottom" fmla="*/ 572760 h 66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095880" y="3733920"/>
            <a:ext cx="2895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w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w Crea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w Products &amp; Servic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LeadershipPiecesWas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8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KnowledgeManagementWash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1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2" name="Cartis3Wash" descr=""/>
          <p:cNvPicPr/>
          <p:nvPr/>
        </p:nvPicPr>
        <p:blipFill>
          <a:blip r:embed="rId3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BlueSkyNorthStarPolarisWash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ur Portfolio of Products </a:t>
            </a:r>
            <a:br>
              <a:rPr sz="36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sed on a dynamic and scaleable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1564200" y="1955880"/>
            <a:ext cx="11899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81360" indent="-1770120">
              <a:lnSpc>
                <a:spcPct val="100000"/>
              </a:lnSpc>
              <a:tabLst>
                <a:tab algn="l" pos="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1.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laris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Creation of dynamic business models that align vis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1360" indent="-1770120">
              <a:lnSpc>
                <a:spcPct val="100000"/>
              </a:lnSpc>
              <a:tabLst>
                <a:tab algn="l" pos="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trategy, passion and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2485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One model, integrated processes, multiple product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6760" y="2666880"/>
            <a:ext cx="8033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2. </a:t>
            </a: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Cartis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:  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Career mapping and personal strategy generator for</a:t>
            </a:r>
            <a:br>
              <a:rPr sz="1800"/>
            </a:b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value-based decision m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3840" y="4038480"/>
            <a:ext cx="8539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Comic Sans MS"/>
              </a:rPr>
              <a:t>3. </a:t>
            </a:r>
            <a:r>
              <a:rPr b="1" lang="en-US" sz="2000" spc="-1" strike="noStrike">
                <a:solidFill>
                  <a:srgbClr val="00cc99"/>
                </a:solidFill>
                <a:latin typeface="Comic Sans MS"/>
              </a:rPr>
              <a:t>Gnosis</a:t>
            </a:r>
            <a:r>
              <a:rPr b="1" lang="en-US" sz="1800" spc="-1" strike="noStrike">
                <a:solidFill>
                  <a:srgbClr val="00cc99"/>
                </a:solidFill>
                <a:latin typeface="Comic Sans MS"/>
              </a:rPr>
              <a:t>:  </a:t>
            </a:r>
            <a:r>
              <a:rPr b="1" lang="en-US" sz="18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cc99"/>
                </a:solidFill>
                <a:latin typeface="Comic Sans MS"/>
              </a:rPr>
              <a:t>Knowledge capture and learning interfaces for designing</a:t>
            </a:r>
            <a:br>
              <a:rPr sz="1800"/>
            </a:br>
            <a:r>
              <a:rPr b="1" lang="en-US" sz="1800" spc="-1" strike="noStrike">
                <a:solidFill>
                  <a:srgbClr val="00cc99"/>
                </a:solidFill>
                <a:latin typeface="Comic Sans MS"/>
              </a:rPr>
              <a:t>intuitive front-ends and knowledge-value-ch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00" y="5181480"/>
            <a:ext cx="7625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4.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Chorus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: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Aligning and clarifying game plans for designing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new products, processes or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BlueSkyNorthStarPolarisWas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04920" y="2286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laris - Our first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981080"/>
            <a:ext cx="5715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atic and linear business modeling/planning solutions do not work with today’s dynamic and Internet-speed based business re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838080"/>
            <a:ext cx="57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cenario generator and navigator for developing knowledge-based strategic business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9080" y="3429000"/>
            <a:ext cx="5887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enefits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al-time adaptability to market dyna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arify strategic int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ultiple scenario cre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nderstand competencies and incompet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349960"/>
            <a:ext cx="7848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uccess Stories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astek developed Intangible Asset model based o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eir stock price soared from 600 Rupees to 4200 Rupees because they connected strategic planning and tracked it for five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Cartis3Wash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rt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Our second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981080"/>
            <a:ext cx="86104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nowledge workers ar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iving corpo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know how to lead themsel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 solutions that provide holistic and deeper understan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 themselves as it relates to their personal and work l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06668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mic Sans MS"/>
              </a:rPr>
              <a:t>Career mapping and personal strategy generator for value-based decision making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3880" y="3886200"/>
            <a:ext cx="72867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termine where you are go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derstand what’s keeping you from achieving your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rify and better use what gives you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derstand your alarms to warn when off tr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14080" y="5715000"/>
            <a:ext cx="3215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ccess Stori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BAe Systems execu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24080" y="64767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ent Managemen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2000 Self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Keys to Accomplish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76240" y="1882800"/>
            <a:ext cx="6400800" cy="46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124080" y="64767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ent Managemen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2000 Self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2600" y="1828800"/>
            <a:ext cx="8210520" cy="4572000"/>
          </a:xfrm>
          <a:prstGeom prst="rect">
            <a:avLst/>
          </a:prstGeom>
          <a:noFill/>
          <a:ln w="381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0049"/>
                </a:solidFill>
                <a:latin typeface="Times New Roman"/>
              </a:rPr>
              <a:t>Core Competencies</a:t>
            </a:r>
            <a:br>
              <a:rPr sz="4400"/>
            </a:br>
            <a:r>
              <a:rPr b="0" lang="en-US" sz="4400" spc="-1" strike="noStrike">
                <a:solidFill>
                  <a:srgbClr val="280049"/>
                </a:solidFill>
                <a:latin typeface="Times New Roman"/>
              </a:rPr>
              <a:t>for Accomplish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Clarity of in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Awareness of what is going on around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Empathy for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Appreciation for one another and for what you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Stretching beyond your own 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Letting go of what does not work and old mind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81d58"/>
                </a:solidFill>
                <a:latin typeface="Times New Roman"/>
              </a:rPr>
              <a:t>You can find an article on Accomplishment in the learning section of www.mithy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4767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ent Managemen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2000 Self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asting Views of the Corpora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usiness Week 8/28/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93800" y="1144440"/>
          <a:ext cx="6694560" cy="571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1144440"/>
                    <a:ext cx="6694560" cy="57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24080" y="64767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ent Managemen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2000 Self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Cont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914400"/>
            <a:ext cx="77724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Importance and Vi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Integration with US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nger and Younger Execu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Pressures and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evelop Mature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and Talent 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US - India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ng up the Value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acting, Retaining Top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4767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ent Managemen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2000 Self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Cont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155600"/>
            <a:ext cx="7772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Manage Indian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icon Valley E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+ age group trying to find a place for themse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yalty?? Competence?? Character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4767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ent Managemen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2000 Self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etencies for New Ec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1752480"/>
            <a:ext cx="7772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Lea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Knowledge Work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Organiz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4767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ent Managemen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2000 Self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etencies for New Ec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155600"/>
            <a:ext cx="777240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Lea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racting, Retaining and Motivating t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exibility, Mass Custo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st practices vs. Next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 for Adaptation and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think Org.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 belief in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124080" y="64767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ent Managemen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2000 Self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etencies for New Ec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838080"/>
            <a:ext cx="77724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Knowledge Work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havior +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ulnerability, Open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il quic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ick and Non-linear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etence vs. Mat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ign your life and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repreneurial spir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4767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ent Managemen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2000 Self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etencies for New Ec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155600"/>
            <a:ext cx="77724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ed of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 is not Power, Knowledg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mocracy of Decision-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ledge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siness Design -- Flexible and Dyna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4767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ent Managemen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2000 Self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to Talent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 environment 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igh degree of  trus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fear of making mistak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tivated sense of purpose with clarity of goal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igh regard and respect for individual and collective collabor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nowledge &amp; Innovation Consortium draft 6/23/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rough language that we coordinate our actions and create knowledge. It stems from our emotions. - Matu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ent is retained in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00:09:01Z</dcterms:created>
  <dc:creator>Thomas &amp; Jennifer Milus</dc:creator>
  <dc:description/>
  <dc:language>en-US</dc:language>
  <cp:lastModifiedBy>PK</cp:lastModifiedBy>
  <dcterms:modified xsi:type="dcterms:W3CDTF">2000-09-29T04:46:02Z</dcterms:modified>
  <cp:revision>81</cp:revision>
  <dc:subject/>
  <dc:title>Knowledge Creation in BAE Systems </dc:title>
</cp:coreProperties>
</file>