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7B0C-99DD-47A4-97AA-C1A592CE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A50-BBE2-4B50-B483-3A27CDD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9A2-26CF-4AF2-B16A-B7F93D52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DCE-E1AC-4BC0-B991-1EAB8381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FA2-7880-4473-9DB2-CB836EC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E486-90C2-4775-8579-E9C5CD40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3BA-6078-4B4A-8543-3F2D936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459-F223-4959-BA58-7E6FA613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8C6-D3AF-48EB-BE24-BFFD8416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DB5-8B98-4E86-B750-C3011FD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8AA-E69D-476B-A358-24B5D63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B3E-5595-4FD4-97CE-64C9386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228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22F5-434B-4675-A901-4C624A02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6248520"/>
            <a:ext cx="1116000" cy="344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04200" y="6281640"/>
            <a:ext cx="1066680" cy="32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267080"/>
            <a:ext cx="8305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IEEE SoutheastCon 2006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emphis</a:t>
            </a:r>
            <a:br>
              <a:rPr sz="2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31 March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29000" y="762120"/>
          <a:ext cx="22096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762120"/>
                    <a:ext cx="22096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297180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r. Ralph W. Wyndrum, J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006 IEEE-USA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28600"/>
            <a:ext cx="381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7040" y="1600200"/>
            <a:ext cx="796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Strategic Program for 2006-200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A79-1D1D-46EF-9FC6-9CC24EA85F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ther Dissenters’ Vo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1% of “balkers” wanted to create a new membership category allowing lower cost basic dues, and “pay-by-the-benefit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7% “less than definite about renewing” wouldn’t renew membership because of dissatisfaction with a particular member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Job Site highest observed importance/ dissatisfied percentage (10%) of any measured offering; followed by IEEE-USA Salary Service (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208-AAA1-4065-8D23-DB3B975280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st Valuable Prospective Initiatives for All Respon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%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ractical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%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E courses on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%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rograms to inspire K-12 young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artner for university tuition discounts, online/on-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 U.S. engineering/hi-tec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9A3-A3B0-45B8-992F-77482C5ED2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lications for IEEE-US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benefits need to be just that – not profit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 with other IEEE units; communicate all benefits for which members are eli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valuable on-line/on-campus CE benefits that members need to stay current, be more inno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avings on member benefits (such as CE) that can more than offset member 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our next generation to be more technologically lit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433-107D-49B3-B98B-5387D8EEDF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EE-USA in Washington, DC </a:t>
            </a:r>
            <a:br>
              <a:rPr sz="44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006 Public Policy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urge Congress to pass comprehensive legislation designed to promote U.S. innovation and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-  National Innovation 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.2109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tecting America’s Competitive Edge (PACE) 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upport immigration reforms (“Green Cards, Not Guest Workers”) and passage of reform bill to prevent H-1B abuse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.R. 437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2006 priorities include E-Health, Patent Reform, Retirement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78DB-F979-4E9D-A4C8-B095870207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EE-USA in Washington, DC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Building Care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 IEEE-USA “Employment Navigator” -- collects more than five-million job leads from 170,000 Web s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expanding IEEE-USA’s Career &amp; Employment Strategies Forum -- IEEE’s largest and most active virtu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IEEE Publications to improve the IEEE Job Site, with access to more than 3,000 employers, 10,000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819-A94E-4536-8502-5D2444253C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EE-USA in Washington DC </a:t>
            </a:r>
            <a:br>
              <a:rPr sz="44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upporting Continuing Education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-USA is promoting IEEE Education Partners Program with EAB, whi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ome 6,000 courses from more than a dozen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members meet CE, certificate, graduate degre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Drexel, N.J. Institute of Technology, Stevens Institute of Technology, Thomson NET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ignificant discounts that can offset dues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77360" y="5867280"/>
            <a:ext cx="63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eee.org/web/education/partners/eduPartn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3DE-43E0-48D1-801A-5F08C174D6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-USA is also partnering with EAB to promote IEEE “Expert Now” courses -- one-hour online learning modules covering aerospace to vehicular technology, which capture the latest information on emerging technologies from IEEE conference tutorials, short courses, worksho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-USA partnering with “AchieveGlobal” to offer 29 online “Leadership for Results” courses to equip members with the "soft skills" needed to succeed in today's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19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EE-USA in Washington DC </a:t>
            </a:r>
            <a:br>
              <a:rPr sz="44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upporting Continuing Education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E49-101B-42CF-81D4-18ECAB58A9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 IEEE” Member Benefit</a:t>
            </a:r>
            <a:br>
              <a:rPr sz="4400"/>
            </a:b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http://www.ieee.org/web/membership/myiee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Member's personalized web gateway to membership, which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stop access to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ly for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hicle for direct member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ed to individual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ng member value cl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1379-F1A7-4780-9809-D2C785DA3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moting IEEE Fields of Interest for the Next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raging $$ and volunteer resources to support future of profession through EAB’s Teacher in Service Program (TISP), K-12 student mentoring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-USA sponsoring expansion of EAB’s TISP into Massachusetts, In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8 precollege educators representing over 59,000  students in more than one-dozen IEEE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022-98BE-44DB-9E4E-91E979EB6D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moting IEEE Fields of Interest For Next Generation (cont’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-USA Teacher-Enginee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s collaborative activities between K-12 teachers, IEEE memb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-USA Teacher Grant for Inno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up to $1,500 for innovative projects that introduce engineering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F75-120D-4899-9F14-97DDDC955A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EEE-USA Goals for 2006-2007</a:t>
            </a:r>
            <a:br>
              <a:rPr sz="4400"/>
            </a:b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Express Member/Future Professional Nee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increased, “sticky” member value in products, services – to improve member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ious, career-long continuing education to maintain a competitive USA workforce, and to preserve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novation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K-12 education to assure the next generation of high-tech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6ED-AA04-402A-B1E5-ED45C034F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ummarizing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2006-2007 IEEE-USA Go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increased member value in products,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ious, career-long  continuing education to maintain a competitive USA workforce, and to preserve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novation leader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K-12 education for future technolog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865-E6A4-4CF6-B8FA-777743B97A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: Building Bri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-USA and its volunteer leaders will build bridges to other IEEE organizational units in order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he IEEE’s value proposition to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IEEE (and IEEE-USA) are offering U.S. members the products, services that they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  Enhance communications to increase member awareness and utilization of the benefits that are already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C71-DB77-48E6-99F9-D10B13796D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EEE-U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28 L Street, N.W., Suite 120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hington, DC 20036-51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:  +1 202 785 0017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x:  +1 202 785 083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eeusa@ieee.or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: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ieeeus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A94-D5E9-4C96-8045-3E17BFBFBB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Our Members Want From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U.S. member survey undertaken at IEEE-USA’s request in December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500 U.S. members; 500+ respondents with +/-4.4% error 95% C.L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3D1-DB4F-44AA-B358-15E7D0F0E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2005 Member Survey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% of all members would “definitely” recommend membership to colleagu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“backer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of all members were unsure/wouldn’t recommend membership to colleagues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EEE “balker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91% of members probably/definitely will renew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in retention most likely among “balk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0F7-FF8F-4EC1-B134-6B5CFF29EB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oser Look: IEEE “Balk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at younger, more likely to hold B.S., work in industry, belong as Me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to develop strong identification with prof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disinterested in volunteering, awards recognitio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ed interest in problem solving, finding practical solutions needed “on jo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312-6FFE-47B4-A0F9-BA8B57D065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.S. IEEE Member 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ical member works for large organization with at least 1,000 employees at all lo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9% employed in private 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8% are self-employ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% of all members are “balker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9E8-7B9C-4513-89FD-965202A37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U.S. IEEE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ber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3520" y="1600200"/>
          <a:ext cx="81532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1532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A127-AB5B-4B16-B523-28C01C27F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other “Cut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447920"/>
          <a:ext cx="8077320" cy="4214520"/>
        </p:xfrm>
        <a:graphic>
          <a:graphicData uri="http://schemas.openxmlformats.org/drawingml/2006/table">
            <a:tbl>
              <a:tblPr/>
              <a:tblGrid>
                <a:gridCol w="3880080"/>
                <a:gridCol w="4197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ademic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 hold doct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 hold docto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in development, engineering, o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in re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 express need for better CE opportun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 likely to be continuously upgrading their edu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9FC-C6DC-4362-9520-038169811D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Are Tradeoffs For Those Rating IEEE Value Unfavorab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nt more, better benefit value at same pri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5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nt lower costs without reducing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ly 6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vor reducing costs by reducing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6172200"/>
            <a:ext cx="350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: 2005 MEMBER SURVEY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FOR U.S.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BCC-8112-478F-A24E-7DD0AFBC9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9:20:47Z</dcterms:created>
  <dc:creator> PM</dc:creator>
  <dc:description/>
  <dc:language>en-US</dc:language>
  <cp:lastModifiedBy>Administrator</cp:lastModifiedBy>
  <dcterms:modified xsi:type="dcterms:W3CDTF">2006-04-01T16:19:24Z</dcterms:modified>
  <cp:revision>57</cp:revision>
  <dc:subject/>
  <dc:title>2006-07 Goals, Objectives</dc:title>
</cp:coreProperties>
</file>